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21B-65BB-4284-B6CA-3927F3BC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9D3-AAE4-485E-8BEA-85E9CE8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FCA-D316-4571-8AD1-A4EB6C9A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0B8-80C8-4280-8761-72D72ED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867-8DA8-4714-80BD-D5FBF43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887-2719-4739-BED3-D1AF3DE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1DA-D359-4770-9E94-3FA5FF5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C1F-90BF-41C9-8EF1-F43D9A2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EFC-5CBC-4D25-886C-6E8FB15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DA4-23ED-4D9C-A4B9-7377D31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7E8-143E-46B1-8CBD-E4A41EB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BB0-717A-4F8B-8A7E-8A76C3A8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7DD-1BBD-445A-B700-542271C76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ommunicating When Someone Has Dement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You Sa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You Say It MATTERS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Teepa\AppData\Local\Microsoft\Windows\Temporary Internet Files\Content.IE5\ICZNBDME\MCj00787060000[1].wmf"/>
          <p:cNvPicPr/>
          <p:nvPr/>
        </p:nvPicPr>
        <p:blipFill>
          <a:blip r:embed="rId1"/>
          <a:stretch/>
        </p:blipFill>
        <p:spPr>
          <a:xfrm>
            <a:off x="6819840" y="3581280"/>
            <a:ext cx="1681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– Connect Emotio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your name – ”I’m  (NAME) and you are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a shared background – “I’m from (place) and you’re from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a positive personal comment – “You look great in that ….” or “I love that color on you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– Get it GO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SIMPLE &amp; Short Inf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 concrete CHO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the person to 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 the TASK DOWN to single steps at a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SIMPLE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VISUAL combined VERBAL (gesture/poin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’s about time for… 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’s go this way…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re are your socks…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N’T ask questions you DON’T want to hear the answer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knowledge the response/reaction to your inf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 your words – Keep it SIMP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IT!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To Communicate-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Just Having a Conversation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560" y="29718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re you KNOW, the better it will 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ke it s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with the F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nnec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PPA to get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VISUAL conn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inter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VERBAL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 enthusiastic, keep responses 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HYSICAL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hand-under-hand, use flat open hand on forearm or k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 common inte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something nice about the person or their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e something about yourself and encourage the person to share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their lead – listen activ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ome of their words to  keep the flow g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its the FIRST TIME! – expect repe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phrase “Tell me ABOUT 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n Emotional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in the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ops or o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PARALLEL engagement at fi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k at the ‘thing’, be interested, share it over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 less, wait longer, take turns , COVER don’t confront when you aren’t getting the words, enjoy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utomatic speech and social patterns to start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it short – Emphasize the VI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with the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UPPORTIVE communication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bjects and the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gestures and po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nowledge &amp; accept emo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empathy &amp; Vali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amiliar phrases or known inte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ect ‘values’ and ‘beliefs’ – avoid the neg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’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o CONTROL the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up reality orientation and BIG 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correct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info if asked, monitoring the emotional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o STOP the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ject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try to distract UNTIL you are well conn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VISUAL cues 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mmunicate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DISTRE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irst - CONN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n - Use Supportive Commun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inally – Move together to N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ssentials for Communic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2895480"/>
            <a:ext cx="4952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elp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ur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Matters Mo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mmunicat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 a Detect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Ju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y to figure out WHAT is being communic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u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lief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assume or pres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N’T  discount me because of HOW I deliver the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mmunicate &amp; Figure It Ou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b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ys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otion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ritu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ve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v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Activity/F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met Physic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ngry or Thir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red or Over-energ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ion – need to/d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– too hot/c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IN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ints - skele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s – gut/heart/bow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ses or fo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met Emotion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i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erb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hys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mot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piri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 Conne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Use the Positive Physical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457200" y="380880"/>
          <a:ext cx="166356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166356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Group 42"/>
          <p:cNvGrpSpPr/>
          <p:nvPr/>
        </p:nvGrpSpPr>
        <p:grpSpPr>
          <a:xfrm>
            <a:off x="3124080" y="609480"/>
            <a:ext cx="2648160" cy="1143000"/>
            <a:chOff x="3124080" y="609480"/>
            <a:chExt cx="2648160" cy="1143000"/>
          </a:xfrm>
        </p:grpSpPr>
        <p:graphicFrame>
          <p:nvGraphicFramePr>
            <p:cNvPr id="138" name="Object 4"/>
            <p:cNvGraphicFramePr/>
            <p:nvPr/>
          </p:nvGraphicFramePr>
          <p:xfrm>
            <a:off x="4953240" y="685440"/>
            <a:ext cx="819000" cy="106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3240" y="685440"/>
                      <a:ext cx="81900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5"/>
            <p:cNvGraphicFramePr/>
            <p:nvPr/>
          </p:nvGraphicFramePr>
          <p:xfrm>
            <a:off x="3124080" y="609480"/>
            <a:ext cx="1607400" cy="106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4080" y="609480"/>
                      <a:ext cx="160740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Group 6"/>
          <p:cNvGrpSpPr/>
          <p:nvPr/>
        </p:nvGrpSpPr>
        <p:grpSpPr>
          <a:xfrm>
            <a:off x="6629400" y="457200"/>
            <a:ext cx="2220840" cy="1523880"/>
            <a:chOff x="6629400" y="457200"/>
            <a:chExt cx="2220840" cy="1523880"/>
          </a:xfrm>
        </p:grpSpPr>
        <p:sp>
          <p:nvSpPr>
            <p:cNvPr id="143" name="Freeform 7"/>
            <p:cNvSpPr/>
            <p:nvPr/>
          </p:nvSpPr>
          <p:spPr>
            <a:xfrm>
              <a:off x="7879320" y="1123560"/>
              <a:ext cx="970920" cy="7239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6629400" y="729720"/>
              <a:ext cx="1564560" cy="12387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6969600" y="1960560"/>
              <a:ext cx="104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6712200" y="457200"/>
              <a:ext cx="2114280" cy="149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7251120" y="1364400"/>
              <a:ext cx="77760" cy="1008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7349400" y="1349640"/>
              <a:ext cx="90360" cy="1123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212240" y="1360800"/>
              <a:ext cx="30240" cy="946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7026480" y="1318320"/>
              <a:ext cx="178560" cy="1285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833600" y="1251360"/>
              <a:ext cx="26244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7280280" y="1191240"/>
              <a:ext cx="232560" cy="1508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7269120" y="1282320"/>
              <a:ext cx="28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7238160" y="1184040"/>
              <a:ext cx="57240" cy="1404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7004520" y="1097640"/>
              <a:ext cx="259920" cy="2134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7768080" y="1088280"/>
              <a:ext cx="297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7459920" y="1100520"/>
              <a:ext cx="113040" cy="846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7356600" y="1045440"/>
              <a:ext cx="205920" cy="1087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7720560" y="945720"/>
              <a:ext cx="33516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7320240" y="1035360"/>
              <a:ext cx="69840" cy="1000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7291440" y="1026000"/>
              <a:ext cx="67320" cy="1022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7003800" y="883440"/>
              <a:ext cx="319320" cy="2397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7542000" y="965160"/>
              <a:ext cx="100800" cy="781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7396920" y="853920"/>
              <a:ext cx="243360" cy="1519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7702560" y="805320"/>
              <a:ext cx="2574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7366680" y="834840"/>
              <a:ext cx="125280" cy="1281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7752600" y="951840"/>
              <a:ext cx="3960" cy="4680"/>
            </a:xfrm>
            <a:prstGeom prst="pie">
              <a:avLst/>
            </a:prstGeom>
            <a:solidFill>
              <a:srgbClr val="a8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7080480" y="702000"/>
              <a:ext cx="383400" cy="2473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7845840" y="856440"/>
              <a:ext cx="24840" cy="16560"/>
            </a:xfrm>
            <a:prstGeom prst="pie">
              <a:avLst/>
            </a:prstGeom>
            <a:solidFill>
              <a:srgbClr val="a8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7362720" y="578520"/>
              <a:ext cx="430200" cy="2199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7594560" y="586800"/>
              <a:ext cx="90360" cy="500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787160" y="484560"/>
              <a:ext cx="65160" cy="1299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656480" y="480960"/>
              <a:ext cx="104400" cy="867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nsistent positive phys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use at edge of public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ure &amp; greet b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your hand &amp; make eye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 slowly within visual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ke hands &amp; maintain hand-under-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th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to eye level &amp; respect personal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…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conn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ERB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CTILE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nect EMOTION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 with THEIR FLOW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BLOCK - 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DIRECT - L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nnect EMOTIONALL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 visual signal of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CONCE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 a verbal signal of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RIGHT TONE OF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 a physical signal of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a light SQUEEZE or SANDWICH the 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a OPEN PALM on Shoulder or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a HUG – IF the person is Seeking more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Supportive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a few of their WORDS with a ? at 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er EM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nds lik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ms lik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oks lik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nfrontational QUESTION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just a FEW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EXAMPL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l in the BLAN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Supportive Communic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ate emo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– “It’s really (label emotion) to have this happen” or “I’m sorry this is happening to you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WAY – repeat their words (with emo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for added INFO, IDEAS, THOU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new info BY WATCHING &amp; LIST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 – CHECK OUT the WHOLE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, posture, movement, gestures, touching,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 for NEED under the words or 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ommunicate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the person to DO Some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a relationship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ork on Task Attem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ce Connected &amp; Communicating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New Wor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a New Place –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NEW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953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– Re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sub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– Dis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related BUT enj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ALL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hat you are trying is NOT work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IT THROUGH…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approach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something slightly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i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erb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hys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Emot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Individually - Spirit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Teepa\AppData\Local\Microsoft\Windows\Temporary Internet Files\Content.IE5\2TKKW618\MCj02805340000[1].wmf"/>
          <p:cNvPicPr/>
          <p:nvPr/>
        </p:nvPicPr>
        <p:blipFill>
          <a:blip r:embed="rId1"/>
          <a:stretch/>
        </p:blipFill>
        <p:spPr>
          <a:xfrm>
            <a:off x="5726160" y="2257560"/>
            <a:ext cx="29131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 Conne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Use the Positive Physical Approa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457200" y="380880"/>
          <a:ext cx="166356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166356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42"/>
          <p:cNvGrpSpPr/>
          <p:nvPr/>
        </p:nvGrpSpPr>
        <p:grpSpPr>
          <a:xfrm>
            <a:off x="3124080" y="609480"/>
            <a:ext cx="2648160" cy="1143000"/>
            <a:chOff x="3124080" y="609480"/>
            <a:chExt cx="2648160" cy="1143000"/>
          </a:xfrm>
        </p:grpSpPr>
        <p:graphicFrame>
          <p:nvGraphicFramePr>
            <p:cNvPr id="56" name="Object 3"/>
            <p:cNvGraphicFramePr/>
            <p:nvPr/>
          </p:nvGraphicFramePr>
          <p:xfrm>
            <a:off x="4953240" y="685440"/>
            <a:ext cx="819000" cy="106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3240" y="685440"/>
                      <a:ext cx="81900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4"/>
            <p:cNvGraphicFramePr/>
            <p:nvPr/>
          </p:nvGraphicFramePr>
          <p:xfrm>
            <a:off x="3124080" y="609480"/>
            <a:ext cx="1607400" cy="106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4080" y="609480"/>
                      <a:ext cx="160740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Group 6"/>
          <p:cNvGrpSpPr/>
          <p:nvPr/>
        </p:nvGrpSpPr>
        <p:grpSpPr>
          <a:xfrm>
            <a:off x="6629400" y="457200"/>
            <a:ext cx="2220840" cy="1523880"/>
            <a:chOff x="6629400" y="457200"/>
            <a:chExt cx="2220840" cy="1523880"/>
          </a:xfrm>
        </p:grpSpPr>
        <p:sp>
          <p:nvSpPr>
            <p:cNvPr id="61" name="Freeform 7"/>
            <p:cNvSpPr/>
            <p:nvPr/>
          </p:nvSpPr>
          <p:spPr>
            <a:xfrm>
              <a:off x="7879320" y="1123560"/>
              <a:ext cx="970920" cy="7239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>
              <a:off x="6629400" y="729720"/>
              <a:ext cx="1564560" cy="12387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>
              <a:off x="6969600" y="1960560"/>
              <a:ext cx="104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>
              <a:off x="6712200" y="457200"/>
              <a:ext cx="2114280" cy="149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>
              <a:off x="7251120" y="1364400"/>
              <a:ext cx="77760" cy="1008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>
              <a:off x="7349400" y="1349640"/>
              <a:ext cx="90360" cy="1123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>
              <a:off x="7212240" y="1360800"/>
              <a:ext cx="30240" cy="946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>
              <a:off x="7026480" y="1318320"/>
              <a:ext cx="178560" cy="1285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>
              <a:off x="7833600" y="1251360"/>
              <a:ext cx="26244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6"/>
            <p:cNvSpPr/>
            <p:nvPr/>
          </p:nvSpPr>
          <p:spPr>
            <a:xfrm>
              <a:off x="7280280" y="1191240"/>
              <a:ext cx="232560" cy="1508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7269120" y="1282320"/>
              <a:ext cx="28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7238160" y="1184040"/>
              <a:ext cx="57240" cy="1404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7004520" y="1097640"/>
              <a:ext cx="259920" cy="2134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7768080" y="1088280"/>
              <a:ext cx="297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1"/>
            <p:cNvSpPr/>
            <p:nvPr/>
          </p:nvSpPr>
          <p:spPr>
            <a:xfrm>
              <a:off x="7459920" y="1100520"/>
              <a:ext cx="113040" cy="8460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2"/>
            <p:cNvSpPr/>
            <p:nvPr/>
          </p:nvSpPr>
          <p:spPr>
            <a:xfrm>
              <a:off x="7356600" y="1045440"/>
              <a:ext cx="205920" cy="1087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7720560" y="945720"/>
              <a:ext cx="33516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7320240" y="1035360"/>
              <a:ext cx="69840" cy="10008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7291440" y="1026000"/>
              <a:ext cx="67320" cy="1022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7003800" y="883440"/>
              <a:ext cx="319320" cy="2397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7"/>
            <p:cNvSpPr/>
            <p:nvPr/>
          </p:nvSpPr>
          <p:spPr>
            <a:xfrm>
              <a:off x="7542000" y="965160"/>
              <a:ext cx="100800" cy="781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8"/>
            <p:cNvSpPr/>
            <p:nvPr/>
          </p:nvSpPr>
          <p:spPr>
            <a:xfrm>
              <a:off x="7396920" y="853920"/>
              <a:ext cx="243360" cy="1519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9"/>
            <p:cNvSpPr/>
            <p:nvPr/>
          </p:nvSpPr>
          <p:spPr>
            <a:xfrm>
              <a:off x="7702560" y="805320"/>
              <a:ext cx="2574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>
              <a:off x="7366680" y="834840"/>
              <a:ext cx="125280" cy="1281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>
              <a:off x="7752600" y="951840"/>
              <a:ext cx="3960" cy="4680"/>
            </a:xfrm>
            <a:prstGeom prst="pie">
              <a:avLst/>
            </a:prstGeom>
            <a:solidFill>
              <a:srgbClr val="a8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>
              <a:off x="7080480" y="702000"/>
              <a:ext cx="383400" cy="24732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3"/>
            <p:cNvSpPr/>
            <p:nvPr/>
          </p:nvSpPr>
          <p:spPr>
            <a:xfrm>
              <a:off x="7845840" y="856440"/>
              <a:ext cx="24840" cy="16560"/>
            </a:xfrm>
            <a:prstGeom prst="pie">
              <a:avLst/>
            </a:prstGeom>
            <a:solidFill>
              <a:srgbClr val="a8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4"/>
            <p:cNvSpPr/>
            <p:nvPr/>
          </p:nvSpPr>
          <p:spPr>
            <a:xfrm>
              <a:off x="7362720" y="578520"/>
              <a:ext cx="430200" cy="21996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5"/>
            <p:cNvSpPr/>
            <p:nvPr/>
          </p:nvSpPr>
          <p:spPr>
            <a:xfrm>
              <a:off x="7594560" y="586800"/>
              <a:ext cx="90360" cy="50040"/>
            </a:xfrm>
            <a:prstGeom prst="pie">
              <a:avLst/>
            </a:prstGeom>
            <a:solidFill>
              <a:srgbClr val="cfb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6"/>
            <p:cNvSpPr/>
            <p:nvPr/>
          </p:nvSpPr>
          <p:spPr>
            <a:xfrm>
              <a:off x="7787160" y="484560"/>
              <a:ext cx="65160" cy="1299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7"/>
            <p:cNvSpPr/>
            <p:nvPr/>
          </p:nvSpPr>
          <p:spPr>
            <a:xfrm>
              <a:off x="7656480" y="480960"/>
              <a:ext cx="104400" cy="86760"/>
            </a:xfrm>
            <a:prstGeom prst="pie">
              <a:avLst/>
            </a:prstGeom>
            <a:solidFill>
              <a:srgbClr val="e6b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nsistent positive phys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use at edge of public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ure &amp; greet b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your hand &amp; make eye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 slowly within visual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ke hands &amp; maintain hand-under-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the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to eye level &amp; respect intimate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-under-Hand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s aging, thin, fragile, forearm s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C:\Users\Teepa\Alzheimers\articles\photos\arms compare.jpg"/>
          <p:cNvPicPr/>
          <p:nvPr/>
        </p:nvPicPr>
        <p:blipFill>
          <a:blip r:embed="rId1"/>
          <a:stretch/>
        </p:blipFill>
        <p:spPr>
          <a:xfrm>
            <a:off x="1371600" y="1676520"/>
            <a:ext cx="65581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9060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20:46:00Z</dcterms:created>
  <dc:creator>Teepa Snow</dc:creator>
  <dc:description/>
  <dc:language>en-US</dc:language>
  <cp:lastModifiedBy>Teepa Snow</cp:lastModifiedBy>
  <dcterms:modified xsi:type="dcterms:W3CDTF">2009-09-19T17:10:42Z</dcterms:modified>
  <cp:revision>37</cp:revision>
  <dc:subject/>
  <dc:title>To Communicate…</dc:title>
</cp:coreProperties>
</file>