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48.xml.rels" ContentType="application/vnd.openxmlformats-package.relationships+xml"/>
  <Override PartName="/ppt/notesSlides/_rels/notesSlide20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4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9.png" ContentType="image/png"/>
  <Override PartName="/ppt/media/image14.jpeg" ContentType="image/jpeg"/>
  <Override PartName="/ppt/media/image1.jpeg" ContentType="image/jpeg"/>
  <Override PartName="/ppt/media/image2.jpeg" ContentType="image/jpeg"/>
  <Override PartName="/ppt/media/image3.wmf" ContentType="image/x-wmf"/>
  <Override PartName="/ppt/media/image1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0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8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  <p:sldId id="291" r:id="rId44"/>
    <p:sldId id="292" r:id="rId45"/>
    <p:sldId id="293" r:id="rId46"/>
    <p:sldId id="294" r:id="rId47"/>
    <p:sldId id="295" r:id="rId48"/>
    <p:sldId id="296" r:id="rId49"/>
    <p:sldId id="297" r:id="rId50"/>
    <p:sldId id="298" r:id="rId51"/>
    <p:sldId id="299" r:id="rId52"/>
    <p:sldId id="300" r:id="rId53"/>
    <p:sldId id="301" r:id="rId54"/>
    <p:sldId id="302" r:id="rId55"/>
    <p:sldId id="303" r:id="rId56"/>
    <p:sldId id="304" r:id="rId57"/>
    <p:sldId id="305" r:id="rId58"/>
    <p:sldId id="306" r:id="rId59"/>
    <p:sldId id="307" r:id="rId60"/>
    <p:sldId id="308" r:id="rId61"/>
    <p:sldId id="309" r:id="rId62"/>
    <p:sldId id="310" r:id="rId63"/>
    <p:sldId id="311" r:id="rId64"/>
    <p:sldId id="312" r:id="rId65"/>
    <p:sldId id="313" r:id="rId66"/>
    <p:sldId id="314" r:id="rId67"/>
    <p:sldId id="315" r:id="rId68"/>
    <p:sldId id="316" r:id="rId69"/>
    <p:sldId id="317" r:id="rId70"/>
    <p:sldId id="318" r:id="rId71"/>
    <p:sldId id="319" r:id="rId72"/>
    <p:sldId id="320" r:id="rId73"/>
    <p:sldId id="321" r:id="rId74"/>
    <p:sldId id="322" r:id="rId75"/>
    <p:sldId id="323" r:id="rId76"/>
    <p:sldId id="324" r:id="rId77"/>
    <p:sldId id="325" r:id="rId78"/>
    <p:sldId id="326" r:id="rId79"/>
    <p:sldId id="327" r:id="rId80"/>
    <p:sldId id="328" r:id="rId81"/>
    <p:sldId id="329" r:id="rId82"/>
    <p:sldId id="330" r:id="rId83"/>
    <p:sldId id="331" r:id="rId84"/>
    <p:sldId id="332" r:id="rId85"/>
    <p:sldId id="333" r:id="rId86"/>
    <p:sldId id="334" r:id="rId87"/>
    <p:sldId id="335" r:id="rId88"/>
    <p:sldId id="336" r:id="rId89"/>
    <p:sldId id="337" r:id="rId90"/>
    <p:sldId id="338" r:id="rId91"/>
    <p:sldId id="339" r:id="rId92"/>
    <p:sldId id="340" r:id="rId93"/>
    <p:sldId id="341" r:id="rId94"/>
    <p:sldId id="342" r:id="rId95"/>
    <p:sldId id="343" r:id="rId96"/>
  </p:sldIdLst>
  <p:sldSz cx="9144000" cy="6858000"/>
  <p:notesSz cx="68580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slide" Target="slides/slide36.xml"/><Relationship Id="rId45" Type="http://schemas.openxmlformats.org/officeDocument/2006/relationships/slide" Target="slides/slide37.xml"/><Relationship Id="rId46" Type="http://schemas.openxmlformats.org/officeDocument/2006/relationships/slide" Target="slides/slide38.xml"/><Relationship Id="rId47" Type="http://schemas.openxmlformats.org/officeDocument/2006/relationships/slide" Target="slides/slide39.xml"/><Relationship Id="rId48" Type="http://schemas.openxmlformats.org/officeDocument/2006/relationships/slide" Target="slides/slide40.xml"/><Relationship Id="rId49" Type="http://schemas.openxmlformats.org/officeDocument/2006/relationships/slide" Target="slides/slide41.xml"/><Relationship Id="rId50" Type="http://schemas.openxmlformats.org/officeDocument/2006/relationships/slide" Target="slides/slide42.xml"/><Relationship Id="rId51" Type="http://schemas.openxmlformats.org/officeDocument/2006/relationships/slide" Target="slides/slide43.xml"/><Relationship Id="rId52" Type="http://schemas.openxmlformats.org/officeDocument/2006/relationships/slide" Target="slides/slide44.xml"/><Relationship Id="rId53" Type="http://schemas.openxmlformats.org/officeDocument/2006/relationships/slide" Target="slides/slide45.xml"/><Relationship Id="rId54" Type="http://schemas.openxmlformats.org/officeDocument/2006/relationships/slide" Target="slides/slide46.xml"/><Relationship Id="rId55" Type="http://schemas.openxmlformats.org/officeDocument/2006/relationships/slide" Target="slides/slide47.xml"/><Relationship Id="rId56" Type="http://schemas.openxmlformats.org/officeDocument/2006/relationships/slide" Target="slides/slide48.xml"/><Relationship Id="rId57" Type="http://schemas.openxmlformats.org/officeDocument/2006/relationships/slide" Target="slides/slide49.xml"/><Relationship Id="rId58" Type="http://schemas.openxmlformats.org/officeDocument/2006/relationships/slide" Target="slides/slide50.xml"/><Relationship Id="rId59" Type="http://schemas.openxmlformats.org/officeDocument/2006/relationships/slide" Target="slides/slide51.xml"/><Relationship Id="rId60" Type="http://schemas.openxmlformats.org/officeDocument/2006/relationships/slide" Target="slides/slide52.xml"/><Relationship Id="rId61" Type="http://schemas.openxmlformats.org/officeDocument/2006/relationships/slide" Target="slides/slide53.xml"/><Relationship Id="rId62" Type="http://schemas.openxmlformats.org/officeDocument/2006/relationships/slide" Target="slides/slide54.xml"/><Relationship Id="rId63" Type="http://schemas.openxmlformats.org/officeDocument/2006/relationships/slide" Target="slides/slide55.xml"/><Relationship Id="rId64" Type="http://schemas.openxmlformats.org/officeDocument/2006/relationships/slide" Target="slides/slide56.xml"/><Relationship Id="rId65" Type="http://schemas.openxmlformats.org/officeDocument/2006/relationships/slide" Target="slides/slide57.xml"/><Relationship Id="rId66" Type="http://schemas.openxmlformats.org/officeDocument/2006/relationships/slide" Target="slides/slide58.xml"/><Relationship Id="rId67" Type="http://schemas.openxmlformats.org/officeDocument/2006/relationships/slide" Target="slides/slide59.xml"/><Relationship Id="rId68" Type="http://schemas.openxmlformats.org/officeDocument/2006/relationships/slide" Target="slides/slide60.xml"/><Relationship Id="rId69" Type="http://schemas.openxmlformats.org/officeDocument/2006/relationships/slide" Target="slides/slide61.xml"/><Relationship Id="rId70" Type="http://schemas.openxmlformats.org/officeDocument/2006/relationships/slide" Target="slides/slide62.xml"/><Relationship Id="rId71" Type="http://schemas.openxmlformats.org/officeDocument/2006/relationships/slide" Target="slides/slide63.xml"/><Relationship Id="rId72" Type="http://schemas.openxmlformats.org/officeDocument/2006/relationships/slide" Target="slides/slide64.xml"/><Relationship Id="rId73" Type="http://schemas.openxmlformats.org/officeDocument/2006/relationships/slide" Target="slides/slide65.xml"/><Relationship Id="rId74" Type="http://schemas.openxmlformats.org/officeDocument/2006/relationships/slide" Target="slides/slide66.xml"/><Relationship Id="rId75" Type="http://schemas.openxmlformats.org/officeDocument/2006/relationships/slide" Target="slides/slide67.xml"/><Relationship Id="rId76" Type="http://schemas.openxmlformats.org/officeDocument/2006/relationships/slide" Target="slides/slide68.xml"/><Relationship Id="rId77" Type="http://schemas.openxmlformats.org/officeDocument/2006/relationships/slide" Target="slides/slide69.xml"/><Relationship Id="rId78" Type="http://schemas.openxmlformats.org/officeDocument/2006/relationships/slide" Target="slides/slide70.xml"/><Relationship Id="rId79" Type="http://schemas.openxmlformats.org/officeDocument/2006/relationships/slide" Target="slides/slide71.xml"/><Relationship Id="rId80" Type="http://schemas.openxmlformats.org/officeDocument/2006/relationships/slide" Target="slides/slide72.xml"/><Relationship Id="rId81" Type="http://schemas.openxmlformats.org/officeDocument/2006/relationships/slide" Target="slides/slide73.xml"/><Relationship Id="rId82" Type="http://schemas.openxmlformats.org/officeDocument/2006/relationships/slide" Target="slides/slide74.xml"/><Relationship Id="rId83" Type="http://schemas.openxmlformats.org/officeDocument/2006/relationships/slide" Target="slides/slide75.xml"/><Relationship Id="rId84" Type="http://schemas.openxmlformats.org/officeDocument/2006/relationships/slide" Target="slides/slide76.xml"/><Relationship Id="rId85" Type="http://schemas.openxmlformats.org/officeDocument/2006/relationships/slide" Target="slides/slide77.xml"/><Relationship Id="rId86" Type="http://schemas.openxmlformats.org/officeDocument/2006/relationships/slide" Target="slides/slide78.xml"/><Relationship Id="rId87" Type="http://schemas.openxmlformats.org/officeDocument/2006/relationships/slide" Target="slides/slide79.xml"/><Relationship Id="rId88" Type="http://schemas.openxmlformats.org/officeDocument/2006/relationships/slide" Target="slides/slide80.xml"/><Relationship Id="rId89" Type="http://schemas.openxmlformats.org/officeDocument/2006/relationships/slide" Target="slides/slide81.xml"/><Relationship Id="rId90" Type="http://schemas.openxmlformats.org/officeDocument/2006/relationships/slide" Target="slides/slide82.xml"/><Relationship Id="rId91" Type="http://schemas.openxmlformats.org/officeDocument/2006/relationships/slide" Target="slides/slide83.xml"/><Relationship Id="rId92" Type="http://schemas.openxmlformats.org/officeDocument/2006/relationships/slide" Target="slides/slide84.xml"/><Relationship Id="rId93" Type="http://schemas.openxmlformats.org/officeDocument/2006/relationships/slide" Target="slides/slide85.xml"/><Relationship Id="rId94" Type="http://schemas.openxmlformats.org/officeDocument/2006/relationships/slide" Target="slides/slide86.xml"/><Relationship Id="rId95" Type="http://schemas.openxmlformats.org/officeDocument/2006/relationships/slide" Target="slides/slide87.xml"/><Relationship Id="rId96" Type="http://schemas.openxmlformats.org/officeDocument/2006/relationships/slide" Target="slides/slide88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"/>
          <p:cNvSpPr/>
          <p:nvPr/>
        </p:nvSpPr>
        <p:spPr>
          <a:xfrm>
            <a:off x="0" y="0"/>
            <a:ext cx="685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dt" idx="19"/>
          </p:nvPr>
        </p:nvSpPr>
        <p:spPr>
          <a:xfrm>
            <a:off x="388440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 type="sldImg"/>
          </p:nvPr>
        </p:nvSpPr>
        <p:spPr>
          <a:xfrm>
            <a:off x="1123920" y="692280"/>
            <a:ext cx="4610160" cy="345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 type="body"/>
          </p:nvPr>
        </p:nvSpPr>
        <p:spPr>
          <a:xfrm>
            <a:off x="685800" y="4379400"/>
            <a:ext cx="5486400" cy="414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 type="ftr" idx="20"/>
          </p:nvPr>
        </p:nvSpPr>
        <p:spPr>
          <a:xfrm>
            <a:off x="-360" y="875772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6"/>
          <p:cNvSpPr>
            <a:spLocks noGrp="1"/>
          </p:cNvSpPr>
          <p:nvPr>
            <p:ph type="sldNum" idx="21"/>
          </p:nvPr>
        </p:nvSpPr>
        <p:spPr>
          <a:xfrm>
            <a:off x="3884400" y="875772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CA81F-59A4-40E0-980E-B446D91ACE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Rectangle 7"/>
          <p:cNvSpPr/>
          <p:nvPr/>
        </p:nvSpPr>
        <p:spPr>
          <a:xfrm>
            <a:off x="3884760" y="875808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A57FC-80DA-41FB-BDDF-873B8045A6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1"/>
          <p:cNvSpPr>
            <a:spLocks noGrp="1"/>
          </p:cNvSpPr>
          <p:nvPr>
            <p:ph type="sldImg"/>
          </p:nvPr>
        </p:nvSpPr>
        <p:spPr>
          <a:xfrm>
            <a:off x="112536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740" name="PlaceHolder 2"/>
          <p:cNvSpPr>
            <a:spLocks noGrp="1"/>
          </p:cNvSpPr>
          <p:nvPr>
            <p:ph type="body"/>
          </p:nvPr>
        </p:nvSpPr>
        <p:spPr>
          <a:xfrm>
            <a:off x="914400" y="4381560"/>
            <a:ext cx="5029200" cy="414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Rectangle 7"/>
          <p:cNvSpPr/>
          <p:nvPr/>
        </p:nvSpPr>
        <p:spPr>
          <a:xfrm>
            <a:off x="3884760" y="875808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6E622-C75C-4FEB-BFCB-8DD63B2705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sldImg"/>
          </p:nvPr>
        </p:nvSpPr>
        <p:spPr>
          <a:xfrm>
            <a:off x="112536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743" name="PlaceHolder 2"/>
          <p:cNvSpPr>
            <a:spLocks noGrp="1"/>
          </p:cNvSpPr>
          <p:nvPr>
            <p:ph type="body"/>
          </p:nvPr>
        </p:nvSpPr>
        <p:spPr>
          <a:xfrm>
            <a:off x="914400" y="4381560"/>
            <a:ext cx="5029200" cy="414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71E48-4D0F-4B17-91AC-2322E6C96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B497A-DE79-4E22-93EA-D8A19C3F7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D5C95-A72E-4E89-9C3F-B3BF1670D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D1601-E416-492C-8B00-509282FD2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4A5A4-507A-44D4-A94F-BA32CFAB6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5AEF8-3CD4-4D1B-8986-0F02DEC15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446AA-8E74-4BB0-932C-B9575877A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0DCB3-5869-47F0-8B8C-F793FDC61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3F763-F2CB-41DE-B0E5-9DE1C2323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5FE9D-3165-4711-B6D6-269799622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7F8EA-4267-4719-BA87-BDDAC85DE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779EF-9169-455E-99DC-FE027DE70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29C93-CCA2-479E-A48B-A5C40E5AD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FDE18-AF83-43AE-B5C2-1513131DF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A3025-BC89-4CE4-8502-6C283B112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F9A11-52AB-42F7-BEC9-858C7CCEC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2DDF0-E15D-4BE9-BB3B-AC89C0BCB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2E3F3B-3B55-454D-8C26-30840C68C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905538-4AED-497F-AA8F-93C4E2B2C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AB487F-F25A-45D3-A51A-7AE0A0B23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B2EDFB-FF51-4F5C-8D97-23DE2DA6E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1BF2A3-8299-4341-B6FE-1F08180A8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E7B62-8C93-4F72-ADCE-13C16F91B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E539DC-8014-4E03-98A6-6398F1B5A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E239A6-8F3C-4004-8AF1-67479D597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38DB9D-5161-4486-99D4-F9675CA2E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4E644A-6B8A-4C24-8F30-94170C5E4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7539CF-BF71-479D-A968-7BAA9274B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F105E1-020D-4145-9D0A-D33F407F5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D6381F-747C-45C8-8CA0-A36A95F3C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0E394F-8B36-4C73-9280-659750529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6AAB03-AC90-4E75-A1EE-5D7FA6FC2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8883A5-E53F-461E-800A-2E2E0B823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11E24-D358-4D4F-AF23-5383DDA70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FE5E01-4594-49B2-93B4-C7E34C287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E91D5D-76C9-474F-94A3-1DF806479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10F7DF-9862-4E3C-98DA-EB6C9D75C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638E8F-F27B-4937-AB09-3F9FF24B8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1A9E10-FACE-4DA5-9874-8BFB07A5C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41A773-BC0E-4E43-8B6D-156395D5C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89C46E-9181-4604-9F43-755925A13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31A4C2-DD99-44B2-825E-723766668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D725DA-8F84-496C-878F-786BDC920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12A0D9-E23F-4EB3-9C42-E1418A3F5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C7C5A-6836-44B7-9BBF-B52E42DDF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2DD95F-3D42-46A8-8FE6-5D33F2B0C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48CAEE-9B4F-473B-A7A0-DE8356FDF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2DB68F-D688-4D46-BCA0-B4FA10BCD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0D58FA-A6A6-4A9C-91F4-919CF5C98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96BA0B-8BC0-4E94-9C00-4B219FCCB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461EC3-E863-4387-8CE7-06B1C58FC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A23171-CF9C-4108-BE65-C505E67F4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A735AF-A7F0-43A7-B25F-3AE1328EC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83A576-7198-4B4E-B358-05701B26A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4AC140-85F0-4BFE-843C-62C80B88F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4B077-A27F-41B6-92B1-00282DB35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D4FFE3-9C7A-44AA-943B-FC68CA879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BDBC61-77B0-43FC-9396-DCFF30C5F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A8AC90-3C69-473C-AF66-81723ED13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3C8B21-BBD1-4FE6-8F73-CB818E292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D3A68D-4FBF-404B-80E4-D9321FABC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EA6B7B-5618-4EC5-A06B-A2195725A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F04546-8106-4D15-9709-4730650F9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E412E0-C7D9-4626-94BF-9003FE56F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AA319C-2708-4841-A06D-7B42815C6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F2F771-5A25-47DB-B49F-F75712187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46EA9-6332-41CC-BE97-FE2166B30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FE818E-A5A4-4D6A-9481-4825E8EEB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C07A00-0F85-4226-94FF-039EECD34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DE6CAC-6D54-4AD4-A68F-2D8DF9338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21771-B369-423E-8EB9-FD12B104B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CBD32-6F90-474E-808D-64710CD4F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040" y="-4680"/>
              <a:ext cx="1012680" cy="6858000"/>
              <a:chOff x="41040" y="-4680"/>
              <a:chExt cx="1012680" cy="685800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74520" y="-4680"/>
                <a:ext cx="967320" cy="6832800"/>
              </a:xfrm>
              <a:prstGeom prst="pie">
                <a:avLst/>
              </a:pr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70560" y="1697040"/>
                <a:ext cx="967680" cy="500760"/>
              </a:xfrm>
              <a:prstGeom prst="pie">
                <a:avLst/>
              </a:pr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81360" y="1274040"/>
                <a:ext cx="967680" cy="502920"/>
              </a:xfrm>
              <a:prstGeom prst="pie">
                <a:avLst/>
              </a:pr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81360" y="138240"/>
                <a:ext cx="967680" cy="303120"/>
              </a:xfrm>
              <a:prstGeom prst="pie">
                <a:avLst/>
              </a:pr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70560" y="989640"/>
                <a:ext cx="967680" cy="348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72000" y="674640"/>
                <a:ext cx="967680" cy="432720"/>
              </a:xfrm>
              <a:prstGeom prst="pie">
                <a:avLst/>
              </a:pr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73080" y="366840"/>
                <a:ext cx="980280" cy="375480"/>
              </a:xfrm>
              <a:prstGeom prst="pie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51480" y="3920760"/>
                <a:ext cx="967320" cy="499320"/>
              </a:xfrm>
              <a:prstGeom prst="pie">
                <a:avLst/>
              </a:pr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62640" y="3536640"/>
                <a:ext cx="967680" cy="500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62640" y="2397600"/>
                <a:ext cx="967680" cy="304200"/>
              </a:xfrm>
              <a:prstGeom prst="pie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62640" y="3223800"/>
                <a:ext cx="967680" cy="347040"/>
              </a:xfrm>
              <a:prstGeom prst="pie">
                <a:avLst/>
              </a:pr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62640" y="2931480"/>
                <a:ext cx="967680" cy="427680"/>
              </a:xfrm>
              <a:prstGeom prst="pie">
                <a:avLst/>
              </a:pr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62280" y="2610720"/>
                <a:ext cx="980280" cy="375840"/>
              </a:xfrm>
              <a:prstGeom prst="pie">
                <a:avLst/>
              </a:prstGeom>
              <a:solidFill>
                <a:srgbClr val="264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48240" y="4952880"/>
                <a:ext cx="967320" cy="499320"/>
              </a:xfrm>
              <a:prstGeom prst="pie">
                <a:avLst/>
              </a:prstGeom>
              <a:solidFill>
                <a:srgbClr val="264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59040" y="4533120"/>
                <a:ext cx="967320" cy="502920"/>
              </a:xfrm>
              <a:prstGeom prst="pie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51480" y="5640120"/>
                <a:ext cx="967320" cy="303120"/>
              </a:xfrm>
              <a:prstGeom prst="pie">
                <a:avLst/>
              </a:pr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1800" y="6195600"/>
                <a:ext cx="345960" cy="969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0680" y="6188400"/>
                <a:ext cx="967320" cy="427680"/>
              </a:xfrm>
              <a:prstGeom prst="pie">
                <a:avLst/>
              </a:pr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0680" y="5873400"/>
                <a:ext cx="980280" cy="375840"/>
              </a:xfrm>
              <a:prstGeom prst="pie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prstGeom prst="pie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4BF89-4DB0-4692-99EA-7486F860B7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9D264-0E48-4DE9-BF81-2D823D13B92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1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5"/>
            <p:cNvSpPr/>
            <p:nvPr/>
          </p:nvSpPr>
          <p:spPr>
            <a:xfrm>
              <a:off x="8657280" y="320040"/>
              <a:ext cx="10944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6"/>
            <p:cNvSpPr/>
            <p:nvPr/>
          </p:nvSpPr>
          <p:spPr>
            <a:xfrm>
              <a:off x="8153280" y="488160"/>
              <a:ext cx="11988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7"/>
            <p:cNvSpPr/>
            <p:nvPr/>
          </p:nvSpPr>
          <p:spPr>
            <a:xfrm>
              <a:off x="8321040" y="488160"/>
              <a:ext cx="11844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8"/>
            <p:cNvSpPr/>
            <p:nvPr/>
          </p:nvSpPr>
          <p:spPr>
            <a:xfrm>
              <a:off x="8489160" y="488160"/>
              <a:ext cx="11376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9"/>
            <p:cNvSpPr/>
            <p:nvPr/>
          </p:nvSpPr>
          <p:spPr>
            <a:xfrm>
              <a:off x="8657280" y="488160"/>
              <a:ext cx="10944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20"/>
            <p:cNvSpPr/>
            <p:nvPr/>
          </p:nvSpPr>
          <p:spPr>
            <a:xfrm>
              <a:off x="8825400" y="488160"/>
              <a:ext cx="119880" cy="1094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24"/>
            <p:cNvSpPr/>
            <p:nvPr/>
          </p:nvSpPr>
          <p:spPr>
            <a:xfrm>
              <a:off x="8657280" y="655920"/>
              <a:ext cx="10944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8"/>
            <p:cNvSpPr/>
            <p:nvPr/>
          </p:nvSpPr>
          <p:spPr>
            <a:xfrm>
              <a:off x="8657280" y="824040"/>
              <a:ext cx="10944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33"/>
            <p:cNvSpPr/>
            <p:nvPr/>
          </p:nvSpPr>
          <p:spPr>
            <a:xfrm>
              <a:off x="8657280" y="992160"/>
              <a:ext cx="10944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7"/>
            <p:cNvSpPr/>
            <p:nvPr/>
          </p:nvSpPr>
          <p:spPr>
            <a:xfrm>
              <a:off x="8657280" y="1159920"/>
              <a:ext cx="10944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9"/>
            <p:cNvSpPr/>
            <p:nvPr/>
          </p:nvSpPr>
          <p:spPr>
            <a:xfrm>
              <a:off x="8657280" y="1328040"/>
              <a:ext cx="109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Group 2"/>
          <p:cNvGrpSpPr/>
          <p:nvPr/>
        </p:nvGrpSpPr>
        <p:grpSpPr>
          <a:xfrm>
            <a:off x="-86760" y="-93600"/>
            <a:ext cx="2773080" cy="6950160"/>
            <a:chOff x="-86760" y="-93600"/>
            <a:chExt cx="2773080" cy="6950160"/>
          </a:xfrm>
        </p:grpSpPr>
        <p:sp>
          <p:nvSpPr>
            <p:cNvPr id="139" name="Freeform 3"/>
            <p:cNvSpPr/>
            <p:nvPr/>
          </p:nvSpPr>
          <p:spPr>
            <a:xfrm>
              <a:off x="-7920" y="5178600"/>
              <a:ext cx="749160" cy="1272960"/>
            </a:xfrm>
            <a:prstGeom prst="pie">
              <a:avLst/>
            </a:pr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0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141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4" name="Freeform 8"/>
            <p:cNvSpPr/>
            <p:nvPr/>
          </p:nvSpPr>
          <p:spPr>
            <a:xfrm>
              <a:off x="142920" y="2755800"/>
              <a:ext cx="1127160" cy="1219320"/>
            </a:xfrm>
            <a:prstGeom prst="pie">
              <a:avLst/>
            </a:pr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5" name="Group 9"/>
            <p:cNvGrpSpPr/>
            <p:nvPr/>
          </p:nvGrpSpPr>
          <p:grpSpPr>
            <a:xfrm>
              <a:off x="-1080" y="2601000"/>
              <a:ext cx="2687400" cy="3118320"/>
              <a:chOff x="-1080" y="2601000"/>
              <a:chExt cx="2687400" cy="3118320"/>
            </a:xfrm>
          </p:grpSpPr>
          <p:sp>
            <p:nvSpPr>
              <p:cNvPr id="146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Freeform 14"/>
              <p:cNvSpPr/>
              <p:nvPr/>
            </p:nvSpPr>
            <p:spPr>
              <a:xfrm flipH="1" rot="789600">
                <a:off x="808200" y="3847680"/>
                <a:ext cx="65520" cy="18180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1" name="Group 15"/>
              <p:cNvGrpSpPr/>
              <p:nvPr/>
            </p:nvGrpSpPr>
            <p:grpSpPr>
              <a:xfrm>
                <a:off x="852120" y="4051800"/>
                <a:ext cx="1834200" cy="1667520"/>
                <a:chOff x="852120" y="4051800"/>
                <a:chExt cx="1834200" cy="1667520"/>
              </a:xfrm>
            </p:grpSpPr>
            <p:sp>
              <p:nvSpPr>
                <p:cNvPr id="152" name="Freeform 16"/>
                <p:cNvSpPr/>
                <p:nvPr/>
              </p:nvSpPr>
              <p:spPr>
                <a:xfrm flipH="1" rot="7102800">
                  <a:off x="1271880" y="3936600"/>
                  <a:ext cx="477360" cy="123948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" name="Freeform 17"/>
                <p:cNvSpPr/>
                <p:nvPr/>
              </p:nvSpPr>
              <p:spPr>
                <a:xfrm flipH="1" rot="7102800">
                  <a:off x="2358360" y="4978440"/>
                  <a:ext cx="110520" cy="50868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" name="Freeform 18"/>
                <p:cNvSpPr/>
                <p:nvPr/>
              </p:nvSpPr>
              <p:spPr>
                <a:xfrm flipH="1" rot="7102800">
                  <a:off x="2499840" y="5567400"/>
                  <a:ext cx="200880" cy="8568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9"/>
            <p:cNvGrpSpPr/>
            <p:nvPr/>
          </p:nvGrpSpPr>
          <p:grpSpPr>
            <a:xfrm>
              <a:off x="467280" y="6172920"/>
              <a:ext cx="790920" cy="635400"/>
              <a:chOff x="467280" y="6172920"/>
              <a:chExt cx="790920" cy="635400"/>
            </a:xfrm>
          </p:grpSpPr>
          <p:sp>
            <p:nvSpPr>
              <p:cNvPr id="156" name="Freeform 20"/>
              <p:cNvSpPr/>
              <p:nvPr/>
            </p:nvSpPr>
            <p:spPr>
              <a:xfrm rot="6248400">
                <a:off x="1011600" y="6171480"/>
                <a:ext cx="196560" cy="2559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Freeform 21"/>
              <p:cNvSpPr/>
              <p:nvPr/>
            </p:nvSpPr>
            <p:spPr>
              <a:xfrm rot="6248400">
                <a:off x="758880" y="6512760"/>
                <a:ext cx="336600" cy="2124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Freeform 22"/>
              <p:cNvSpPr/>
              <p:nvPr/>
            </p:nvSpPr>
            <p:spPr>
              <a:xfrm rot="6248400">
                <a:off x="386640" y="6410880"/>
                <a:ext cx="352080" cy="108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9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160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3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164" name="Freeform 28"/>
              <p:cNvSpPr/>
              <p:nvPr/>
            </p:nvSpPr>
            <p:spPr>
              <a:xfrm>
                <a:off x="1293840" y="0"/>
                <a:ext cx="173160" cy="2185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Freeform 30"/>
              <p:cNvSpPr/>
              <p:nvPr/>
            </p:nvSpPr>
            <p:spPr>
              <a:xfrm>
                <a:off x="1484280" y="489240"/>
                <a:ext cx="309960" cy="921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7" name="Freeform 31"/>
            <p:cNvSpPr/>
            <p:nvPr/>
          </p:nvSpPr>
          <p:spPr>
            <a:xfrm>
              <a:off x="138240" y="149400"/>
              <a:ext cx="1109520" cy="1199880"/>
            </a:xfrm>
            <a:prstGeom prst="pie">
              <a:avLst/>
            </a:pr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32"/>
            <p:cNvSpPr/>
            <p:nvPr/>
          </p:nvSpPr>
          <p:spPr>
            <a:xfrm rot="828600">
              <a:off x="383760" y="5403600"/>
              <a:ext cx="209520" cy="2649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Freeform 33"/>
            <p:cNvSpPr/>
            <p:nvPr/>
          </p:nvSpPr>
          <p:spPr>
            <a:xfrm rot="828600">
              <a:off x="422280" y="5702040"/>
              <a:ext cx="104760" cy="680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34"/>
            <p:cNvSpPr/>
            <p:nvPr/>
          </p:nvSpPr>
          <p:spPr>
            <a:xfrm>
              <a:off x="17640" y="6524640"/>
              <a:ext cx="187200" cy="3319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35"/>
            <p:cNvSpPr/>
            <p:nvPr/>
          </p:nvSpPr>
          <p:spPr>
            <a:xfrm>
              <a:off x="0" y="6299280"/>
              <a:ext cx="206280" cy="2030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36"/>
            <p:cNvSpPr/>
            <p:nvPr/>
          </p:nvSpPr>
          <p:spPr>
            <a:xfrm>
              <a:off x="0" y="6269040"/>
              <a:ext cx="74520" cy="1364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37"/>
            <p:cNvSpPr/>
            <p:nvPr/>
          </p:nvSpPr>
          <p:spPr>
            <a:xfrm>
              <a:off x="0" y="5141880"/>
              <a:ext cx="789120" cy="117468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38"/>
            <p:cNvSpPr/>
            <p:nvPr/>
          </p:nvSpPr>
          <p:spPr>
            <a:xfrm rot="1584000">
              <a:off x="31320" y="650520"/>
              <a:ext cx="546120" cy="3888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Freeform 39"/>
            <p:cNvSpPr/>
            <p:nvPr/>
          </p:nvSpPr>
          <p:spPr>
            <a:xfrm rot="1584000">
              <a:off x="383760" y="1200240"/>
              <a:ext cx="265320" cy="18252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40"/>
            <p:cNvSpPr/>
            <p:nvPr/>
          </p:nvSpPr>
          <p:spPr>
            <a:xfrm rot="1584000">
              <a:off x="911160" y="453960"/>
              <a:ext cx="233280" cy="2541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41"/>
            <p:cNvSpPr/>
            <p:nvPr/>
          </p:nvSpPr>
          <p:spPr>
            <a:xfrm rot="1584000">
              <a:off x="374400" y="1144440"/>
              <a:ext cx="98280" cy="15408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42"/>
            <p:cNvSpPr/>
            <p:nvPr/>
          </p:nvSpPr>
          <p:spPr>
            <a:xfrm rot="1584000">
              <a:off x="928440" y="739800"/>
              <a:ext cx="114120" cy="651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43"/>
            <p:cNvSpPr/>
            <p:nvPr/>
          </p:nvSpPr>
          <p:spPr>
            <a:xfrm>
              <a:off x="0" y="1406520"/>
              <a:ext cx="571680" cy="10317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Freeform 44"/>
            <p:cNvSpPr/>
            <p:nvPr/>
          </p:nvSpPr>
          <p:spPr>
            <a:xfrm rot="1584000">
              <a:off x="88560" y="133200"/>
              <a:ext cx="1276200" cy="10890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FBF0C-5D6F-43D7-9FDE-A81387FA6F83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2" name="Group 2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223" name="Group 3"/>
            <p:cNvGrpSpPr/>
            <p:nvPr/>
          </p:nvGrpSpPr>
          <p:grpSpPr>
            <a:xfrm>
              <a:off x="-3240" y="2479680"/>
              <a:ext cx="9146880" cy="1022040"/>
              <a:chOff x="-3240" y="2479680"/>
              <a:chExt cx="9146880" cy="1022040"/>
            </a:xfrm>
          </p:grpSpPr>
          <p:sp>
            <p:nvSpPr>
              <p:cNvPr id="224" name="Freeform 4"/>
              <p:cNvSpPr/>
              <p:nvPr/>
            </p:nvSpPr>
            <p:spPr>
              <a:xfrm flipH="1" rot="5400000">
                <a:off x="4088880" y="-1575000"/>
                <a:ext cx="990720" cy="9118800"/>
              </a:xfrm>
              <a:prstGeom prst="pie">
                <a:avLst/>
              </a:pr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Freeform 5"/>
              <p:cNvSpPr/>
              <p:nvPr/>
            </p:nvSpPr>
            <p:spPr>
              <a:xfrm flipH="1" rot="5400000">
                <a:off x="6050880" y="2650320"/>
                <a:ext cx="990720" cy="668160"/>
              </a:xfrm>
              <a:prstGeom prst="pie">
                <a:avLst/>
              </a:pr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Freeform 6"/>
              <p:cNvSpPr/>
              <p:nvPr/>
            </p:nvSpPr>
            <p:spPr>
              <a:xfrm flipH="1" rot="5400000">
                <a:off x="6589800" y="2649600"/>
                <a:ext cx="990720" cy="669600"/>
              </a:xfrm>
              <a:prstGeom prst="pie">
                <a:avLst/>
              </a:pr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Freeform 7"/>
              <p:cNvSpPr/>
              <p:nvPr/>
            </p:nvSpPr>
            <p:spPr>
              <a:xfrm flipH="1" rot="5400000">
                <a:off x="8241120" y="2791800"/>
                <a:ext cx="990720" cy="404280"/>
              </a:xfrm>
              <a:prstGeom prst="pie">
                <a:avLst/>
              </a:pr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Freeform 8"/>
              <p:cNvSpPr/>
              <p:nvPr/>
            </p:nvSpPr>
            <p:spPr>
              <a:xfrm flipH="1" rot="5400000">
                <a:off x="7094160" y="2751120"/>
                <a:ext cx="990720" cy="466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Freeform 9"/>
              <p:cNvSpPr/>
              <p:nvPr/>
            </p:nvSpPr>
            <p:spPr>
              <a:xfrm flipH="1" rot="5400000">
                <a:off x="7446600" y="2697120"/>
                <a:ext cx="990720" cy="574200"/>
              </a:xfrm>
              <a:prstGeom prst="pie">
                <a:avLst/>
              </a:pr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Freeform 10"/>
              <p:cNvSpPr/>
              <p:nvPr/>
            </p:nvSpPr>
            <p:spPr>
              <a:xfrm flipH="1" rot="5400000">
                <a:off x="7892280" y="2750040"/>
                <a:ext cx="1003320" cy="499680"/>
              </a:xfrm>
              <a:prstGeom prst="pie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Freeform 11"/>
              <p:cNvSpPr/>
              <p:nvPr/>
            </p:nvSpPr>
            <p:spPr>
              <a:xfrm flipH="1" rot="5400000">
                <a:off x="3060720" y="2643840"/>
                <a:ext cx="990360" cy="667800"/>
              </a:xfrm>
              <a:prstGeom prst="pie">
                <a:avLst/>
              </a:pr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Freeform 12"/>
              <p:cNvSpPr/>
              <p:nvPr/>
            </p:nvSpPr>
            <p:spPr>
              <a:xfrm flipH="1" rot="5400000">
                <a:off x="3593520" y="2641680"/>
                <a:ext cx="990720" cy="669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Freeform 13"/>
              <p:cNvSpPr/>
              <p:nvPr/>
            </p:nvSpPr>
            <p:spPr>
              <a:xfrm flipH="1" rot="5400000">
                <a:off x="5248080" y="2783880"/>
                <a:ext cx="990720" cy="404640"/>
              </a:xfrm>
              <a:prstGeom prst="pie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Freeform 14"/>
              <p:cNvSpPr/>
              <p:nvPr/>
            </p:nvSpPr>
            <p:spPr>
              <a:xfrm flipH="1" rot="5400000">
                <a:off x="4098960" y="2743200"/>
                <a:ext cx="990720" cy="466200"/>
              </a:xfrm>
              <a:prstGeom prst="pie">
                <a:avLst/>
              </a:pr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Freeform 15"/>
              <p:cNvSpPr/>
              <p:nvPr/>
            </p:nvSpPr>
            <p:spPr>
              <a:xfrm flipH="1" rot="5400000">
                <a:off x="4454280" y="2691360"/>
                <a:ext cx="990360" cy="572400"/>
              </a:xfrm>
              <a:prstGeom prst="pie">
                <a:avLst/>
              </a:pr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Freeform 16"/>
              <p:cNvSpPr/>
              <p:nvPr/>
            </p:nvSpPr>
            <p:spPr>
              <a:xfrm flipH="1" rot="5400000">
                <a:off x="4893120" y="2731680"/>
                <a:ext cx="1003320" cy="501120"/>
              </a:xfrm>
              <a:prstGeom prst="pie">
                <a:avLst/>
              </a:prstGeom>
              <a:solidFill>
                <a:srgbClr val="264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Freeform 17"/>
              <p:cNvSpPr/>
              <p:nvPr/>
            </p:nvSpPr>
            <p:spPr>
              <a:xfrm flipH="1" rot="5400000">
                <a:off x="1685520" y="2650320"/>
                <a:ext cx="990720" cy="667800"/>
              </a:xfrm>
              <a:prstGeom prst="pie">
                <a:avLst/>
              </a:prstGeom>
              <a:solidFill>
                <a:srgbClr val="264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Freeform 18"/>
              <p:cNvSpPr/>
              <p:nvPr/>
            </p:nvSpPr>
            <p:spPr>
              <a:xfrm flipH="1" rot="5400000">
                <a:off x="2218680" y="2649600"/>
                <a:ext cx="990720" cy="669600"/>
              </a:xfrm>
              <a:prstGeom prst="pie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Freeform 19"/>
              <p:cNvSpPr/>
              <p:nvPr/>
            </p:nvSpPr>
            <p:spPr>
              <a:xfrm flipH="1" rot="5400000">
                <a:off x="883080" y="2780640"/>
                <a:ext cx="990720" cy="404640"/>
              </a:xfrm>
              <a:prstGeom prst="pie">
                <a:avLst/>
              </a:pr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Freeform 20"/>
              <p:cNvSpPr/>
              <p:nvPr/>
            </p:nvSpPr>
            <p:spPr>
              <a:xfrm flipH="1">
                <a:off x="-3240" y="2479680"/>
                <a:ext cx="461520" cy="992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Freeform 21"/>
              <p:cNvSpPr/>
              <p:nvPr/>
            </p:nvSpPr>
            <p:spPr>
              <a:xfrm flipH="1" rot="5400000">
                <a:off x="88920" y="2691360"/>
                <a:ext cx="990360" cy="572760"/>
              </a:xfrm>
              <a:prstGeom prst="pie">
                <a:avLst/>
              </a:pr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Freeform 22"/>
              <p:cNvSpPr/>
              <p:nvPr/>
            </p:nvSpPr>
            <p:spPr>
              <a:xfrm flipH="1" rot="5400000">
                <a:off x="521280" y="2731680"/>
                <a:ext cx="1003320" cy="501480"/>
              </a:xfrm>
              <a:prstGeom prst="pie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3" name="Freeform 23"/>
            <p:cNvSpPr/>
            <p:nvPr/>
          </p:nvSpPr>
          <p:spPr>
            <a:xfrm flipH="1">
              <a:off x="-3960" y="2438280"/>
              <a:ext cx="9145800" cy="6541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24"/>
            <p:cNvSpPr/>
            <p:nvPr/>
          </p:nvSpPr>
          <p:spPr>
            <a:xfrm flipH="1">
              <a:off x="-3960" y="3201840"/>
              <a:ext cx="9144360" cy="300240"/>
            </a:xfrm>
            <a:prstGeom prst="pie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 type="dt" idx="10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 type="ftr" idx="11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 type="sldNum" idx="12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229A0-234E-4627-A8AE-9D35783838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7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288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9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58F3B-34FF-4AB1-B90A-EF509B8E835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1" name="Group 2"/>
          <p:cNvGrpSpPr/>
          <p:nvPr/>
        </p:nvGrpSpPr>
        <p:grpSpPr>
          <a:xfrm>
            <a:off x="-20160" y="0"/>
            <a:ext cx="9050400" cy="6858000"/>
            <a:chOff x="-20160" y="0"/>
            <a:chExt cx="9050400" cy="6858000"/>
          </a:xfrm>
        </p:grpSpPr>
        <p:grpSp>
          <p:nvGrpSpPr>
            <p:cNvPr id="362" name="Group 3"/>
            <p:cNvGrpSpPr/>
            <p:nvPr/>
          </p:nvGrpSpPr>
          <p:grpSpPr>
            <a:xfrm>
              <a:off x="5401800" y="61200"/>
              <a:ext cx="3628440" cy="6140880"/>
              <a:chOff x="5401800" y="61200"/>
              <a:chExt cx="3628440" cy="6140880"/>
            </a:xfrm>
          </p:grpSpPr>
          <p:sp>
            <p:nvSpPr>
              <p:cNvPr id="363" name="Freeform 4"/>
              <p:cNvSpPr/>
              <p:nvPr/>
            </p:nvSpPr>
            <p:spPr>
              <a:xfrm flipV="1" rot="11970000">
                <a:off x="6582240" y="346680"/>
                <a:ext cx="2115000" cy="23572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Freeform 5"/>
              <p:cNvSpPr/>
              <p:nvPr/>
            </p:nvSpPr>
            <p:spPr>
              <a:xfrm flipV="1" rot="11970000">
                <a:off x="7421760" y="1963800"/>
                <a:ext cx="906120" cy="8427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Freeform 6"/>
              <p:cNvSpPr/>
              <p:nvPr/>
            </p:nvSpPr>
            <p:spPr>
              <a:xfrm flipV="1" rot="11970000">
                <a:off x="6823440" y="2591640"/>
                <a:ext cx="439200" cy="3952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Freeform 7"/>
              <p:cNvSpPr/>
              <p:nvPr/>
            </p:nvSpPr>
            <p:spPr>
              <a:xfrm flipV="1" rot="11970000">
                <a:off x="7250400" y="672840"/>
                <a:ext cx="388800" cy="5515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Freeform 8"/>
              <p:cNvSpPr/>
              <p:nvPr/>
            </p:nvSpPr>
            <p:spPr>
              <a:xfrm flipV="1" rot="11970000">
                <a:off x="7146360" y="2654640"/>
                <a:ext cx="163080" cy="3319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Freeform 9"/>
              <p:cNvSpPr/>
              <p:nvPr/>
            </p:nvSpPr>
            <p:spPr>
              <a:xfrm flipV="1" rot="11970000">
                <a:off x="7131600" y="1244880"/>
                <a:ext cx="190080" cy="1429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Freeform 10"/>
              <p:cNvSpPr/>
              <p:nvPr/>
            </p:nvSpPr>
            <p:spPr>
              <a:xfrm flipV="1" rot="11970000">
                <a:off x="5932440" y="2940120"/>
                <a:ext cx="523440" cy="326844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0" name="Freeform 11"/>
            <p:cNvSpPr/>
            <p:nvPr/>
          </p:nvSpPr>
          <p:spPr>
            <a:xfrm flipH="1" rot="373800">
              <a:off x="33480" y="3106800"/>
              <a:ext cx="512280" cy="10303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Freeform 12"/>
            <p:cNvSpPr/>
            <p:nvPr/>
          </p:nvSpPr>
          <p:spPr>
            <a:xfrm>
              <a:off x="266400" y="2000160"/>
              <a:ext cx="1998360" cy="24321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Freeform 13"/>
            <p:cNvSpPr/>
            <p:nvPr/>
          </p:nvSpPr>
          <p:spPr>
            <a:xfrm>
              <a:off x="0" y="4143240"/>
              <a:ext cx="1271160" cy="7286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Freeform 14"/>
            <p:cNvSpPr/>
            <p:nvPr/>
          </p:nvSpPr>
          <p:spPr>
            <a:xfrm flipH="1" rot="373800">
              <a:off x="1424520" y="4532400"/>
              <a:ext cx="561600" cy="7365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Freeform 15"/>
            <p:cNvSpPr/>
            <p:nvPr/>
          </p:nvSpPr>
          <p:spPr>
            <a:xfrm flipH="1" rot="373800">
              <a:off x="1267560" y="4728960"/>
              <a:ext cx="137880" cy="43488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Freeform 16"/>
            <p:cNvSpPr/>
            <p:nvPr/>
          </p:nvSpPr>
          <p:spPr>
            <a:xfrm>
              <a:off x="1888920" y="5195880"/>
              <a:ext cx="1758600" cy="16621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6" name="Group 17"/>
            <p:cNvGrpSpPr/>
            <p:nvPr/>
          </p:nvGrpSpPr>
          <p:grpSpPr>
            <a:xfrm>
              <a:off x="4149720" y="1033560"/>
              <a:ext cx="1015200" cy="1262160"/>
              <a:chOff x="4149720" y="1033560"/>
              <a:chExt cx="1015200" cy="1262160"/>
            </a:xfrm>
          </p:grpSpPr>
          <p:sp>
            <p:nvSpPr>
              <p:cNvPr id="377" name="Freeform 18"/>
              <p:cNvSpPr/>
              <p:nvPr/>
            </p:nvSpPr>
            <p:spPr>
              <a:xfrm rot="3220200">
                <a:off x="4563720" y="1071360"/>
                <a:ext cx="285840" cy="378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Freeform 19"/>
              <p:cNvSpPr/>
              <p:nvPr/>
            </p:nvSpPr>
            <p:spPr>
              <a:xfrm rot="3220200">
                <a:off x="4648680" y="1604520"/>
                <a:ext cx="488880" cy="3142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Freeform 20"/>
              <p:cNvSpPr/>
              <p:nvPr/>
            </p:nvSpPr>
            <p:spPr>
              <a:xfrm rot="3220200">
                <a:off x="4109760" y="1962000"/>
                <a:ext cx="511200" cy="1602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0" name="Group 21"/>
            <p:cNvGrpSpPr/>
            <p:nvPr/>
          </p:nvGrpSpPr>
          <p:grpSpPr>
            <a:xfrm>
              <a:off x="5642640" y="279360"/>
              <a:ext cx="892800" cy="825840"/>
              <a:chOff x="5642640" y="279360"/>
              <a:chExt cx="892800" cy="825840"/>
            </a:xfrm>
          </p:grpSpPr>
          <p:sp>
            <p:nvSpPr>
              <p:cNvPr id="381" name="Freeform 22"/>
              <p:cNvSpPr/>
              <p:nvPr/>
            </p:nvSpPr>
            <p:spPr>
              <a:xfrm rot="14908200">
                <a:off x="5754240" y="774360"/>
                <a:ext cx="179280" cy="3618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Freeform 23"/>
              <p:cNvSpPr/>
              <p:nvPr/>
            </p:nvSpPr>
            <p:spPr>
              <a:xfrm rot="14908200">
                <a:off x="5703480" y="453960"/>
                <a:ext cx="305280" cy="300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Freeform 24"/>
              <p:cNvSpPr/>
              <p:nvPr/>
            </p:nvSpPr>
            <p:spPr>
              <a:xfrm rot="14908200">
                <a:off x="6246000" y="379080"/>
                <a:ext cx="319320" cy="153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4" name="Group 25"/>
            <p:cNvGrpSpPr/>
            <p:nvPr/>
          </p:nvGrpSpPr>
          <p:grpSpPr>
            <a:xfrm>
              <a:off x="968400" y="5252040"/>
              <a:ext cx="1059480" cy="830880"/>
              <a:chOff x="968400" y="5252040"/>
              <a:chExt cx="1059480" cy="830880"/>
            </a:xfrm>
          </p:grpSpPr>
          <p:sp>
            <p:nvSpPr>
              <p:cNvPr id="385" name="Freeform 26"/>
              <p:cNvSpPr/>
              <p:nvPr/>
            </p:nvSpPr>
            <p:spPr>
              <a:xfrm rot="8524800">
                <a:off x="1711080" y="5517000"/>
                <a:ext cx="250920" cy="2995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Freeform 27"/>
              <p:cNvSpPr/>
              <p:nvPr/>
            </p:nvSpPr>
            <p:spPr>
              <a:xfrm rot="8524800">
                <a:off x="1194120" y="5728320"/>
                <a:ext cx="429480" cy="2487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Freeform 28"/>
              <p:cNvSpPr/>
              <p:nvPr/>
            </p:nvSpPr>
            <p:spPr>
              <a:xfrm rot="8524800">
                <a:off x="960120" y="5376240"/>
                <a:ext cx="448920" cy="1278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8" name="Group 29"/>
            <p:cNvGrpSpPr/>
            <p:nvPr/>
          </p:nvGrpSpPr>
          <p:grpSpPr>
            <a:xfrm>
              <a:off x="375840" y="428760"/>
              <a:ext cx="1690200" cy="1146600"/>
              <a:chOff x="375840" y="428760"/>
              <a:chExt cx="1690200" cy="1146600"/>
            </a:xfrm>
          </p:grpSpPr>
          <p:sp>
            <p:nvSpPr>
              <p:cNvPr id="389" name="Freeform 30"/>
              <p:cNvSpPr/>
              <p:nvPr/>
            </p:nvSpPr>
            <p:spPr>
              <a:xfrm flipH="1" rot="4107000">
                <a:off x="1576080" y="1047240"/>
                <a:ext cx="355320" cy="53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Freeform 31"/>
              <p:cNvSpPr/>
              <p:nvPr/>
            </p:nvSpPr>
            <p:spPr>
              <a:xfrm flipH="1" rot="4107000">
                <a:off x="1022760" y="572400"/>
                <a:ext cx="608400" cy="44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Freeform 32"/>
              <p:cNvSpPr/>
              <p:nvPr/>
            </p:nvSpPr>
            <p:spPr>
              <a:xfrm flipH="1" rot="4107000">
                <a:off x="278640" y="1086120"/>
                <a:ext cx="636120" cy="2239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2" name="Group 33"/>
            <p:cNvGrpSpPr/>
            <p:nvPr/>
          </p:nvGrpSpPr>
          <p:grpSpPr>
            <a:xfrm>
              <a:off x="7399800" y="3712320"/>
              <a:ext cx="1155600" cy="1607760"/>
              <a:chOff x="7399800" y="3712320"/>
              <a:chExt cx="1155600" cy="1607760"/>
            </a:xfrm>
          </p:grpSpPr>
          <p:sp>
            <p:nvSpPr>
              <p:cNvPr id="393" name="Freeform 34"/>
              <p:cNvSpPr/>
              <p:nvPr/>
            </p:nvSpPr>
            <p:spPr>
              <a:xfrm flipH="1" rot="10015800">
                <a:off x="7454520" y="4755960"/>
                <a:ext cx="355320" cy="53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Freeform 35"/>
              <p:cNvSpPr/>
              <p:nvPr/>
            </p:nvSpPr>
            <p:spPr>
              <a:xfrm flipH="1" rot="10015800">
                <a:off x="7905240" y="4455360"/>
                <a:ext cx="608040" cy="44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Freeform 36"/>
              <p:cNvSpPr/>
              <p:nvPr/>
            </p:nvSpPr>
            <p:spPr>
              <a:xfrm flipH="1" rot="10015800">
                <a:off x="7597800" y="3781080"/>
                <a:ext cx="635760" cy="2242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6" name="Freeform 37"/>
            <p:cNvSpPr/>
            <p:nvPr/>
          </p:nvSpPr>
          <p:spPr>
            <a:xfrm>
              <a:off x="1931760" y="3240"/>
              <a:ext cx="1368000" cy="140652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Freeform 38"/>
            <p:cNvSpPr/>
            <p:nvPr/>
          </p:nvSpPr>
          <p:spPr>
            <a:xfrm flipV="1" rot="9832800">
              <a:off x="3425040" y="161280"/>
              <a:ext cx="1080720" cy="9414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Freeform 39"/>
            <p:cNvSpPr/>
            <p:nvPr/>
          </p:nvSpPr>
          <p:spPr>
            <a:xfrm flipV="1" rot="9832800">
              <a:off x="3169080" y="1361160"/>
              <a:ext cx="523440" cy="4410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Freeform 40"/>
            <p:cNvSpPr/>
            <p:nvPr/>
          </p:nvSpPr>
          <p:spPr>
            <a:xfrm flipV="1" rot="9832800">
              <a:off x="3529440" y="1282320"/>
              <a:ext cx="195120" cy="37044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Freeform 41"/>
            <p:cNvSpPr/>
            <p:nvPr/>
          </p:nvSpPr>
          <p:spPr>
            <a:xfrm>
              <a:off x="2544120" y="0"/>
              <a:ext cx="196560" cy="19224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42"/>
            <p:cNvSpPr/>
            <p:nvPr/>
          </p:nvSpPr>
          <p:spPr>
            <a:xfrm flipV="1" rot="9832800">
              <a:off x="3448800" y="1963800"/>
              <a:ext cx="623520" cy="365148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43"/>
            <p:cNvSpPr/>
            <p:nvPr/>
          </p:nvSpPr>
          <p:spPr>
            <a:xfrm>
              <a:off x="0" y="2933640"/>
              <a:ext cx="56880" cy="2095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7846B-D049-47C1-9E58-C27905D1BC52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sar-dbs.com/" TargetMode="External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sar-dbs.com/" TargetMode="External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hyperlink" Target="http://www.sar-dbs.com/" TargetMode="External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sar-dbs.com/" TargetMode="External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hyperlink" Target="http://www.alz.org/" TargetMode="External"/><Relationship Id="rId2" Type="http://schemas.openxmlformats.org/officeDocument/2006/relationships/hyperlink" Target="http://www.dbs-sar.com/" TargetMode="External"/><Relationship Id="rId3" Type="http://schemas.openxmlformats.org/officeDocument/2006/relationships/hyperlink" Target="http://www.projectlifesaver.org/" TargetMode="External"/><Relationship Id="rId4" Type="http://schemas.openxmlformats.org/officeDocument/2006/relationships/hyperlink" Target="http://www.ssww.com/" TargetMode="External"/><Relationship Id="rId5" Type="http://schemas.openxmlformats.org/officeDocument/2006/relationships/hyperlink" Target="http://www.nasco.com/" TargetMode="External"/><Relationship Id="rId6" Type="http://schemas.openxmlformats.org/officeDocument/2006/relationships/hyperlink" Target="http://www.alzstore.com/" TargetMode="External"/><Relationship Id="rId7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172880" y="456840"/>
            <a:ext cx="7589880" cy="304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"/>
              </a:rPr>
              <a:t>Wandering &amp; Dementia</a:t>
            </a:r>
            <a:br>
              <a:rPr sz="4400"/>
            </a:br>
            <a:br>
              <a:rPr sz="4400"/>
            </a:b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What Every SAR Participant</a:t>
            </a:r>
            <a:br>
              <a:rPr sz="3600"/>
            </a:b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 Should Know!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1173240" y="42670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ed by: Teepa Snow, MS, OTR/L, FAO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mentia Care &amp; Training Specia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Cognitive Changes with Aging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rmal changes =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re forgetful &amp; slower to lea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CI – Mild Cognitive Impairment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mediate recall, word finding, or complex problem solving problems (½ of these folks will develop dementia in 5 y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mentia =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ronic thinking problems in &gt; 2 ar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lirium 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apid changes in thinking &amp; alert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seek medical help immediately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pressio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=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hronic unless treated, poor quality ,  “don’t know”, “I just can’t” responses, no plea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n look like agitation &amp; conf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2"/>
          <p:cNvSpPr/>
          <p:nvPr/>
        </p:nvSpPr>
        <p:spPr>
          <a:xfrm>
            <a:off x="5334120" y="3809880"/>
            <a:ext cx="1218960" cy="8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Freeform 3"/>
          <p:cNvSpPr/>
          <p:nvPr/>
        </p:nvSpPr>
        <p:spPr>
          <a:xfrm>
            <a:off x="914400" y="1398600"/>
            <a:ext cx="7315200" cy="22147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Freeform 4"/>
          <p:cNvSpPr/>
          <p:nvPr/>
        </p:nvSpPr>
        <p:spPr>
          <a:xfrm>
            <a:off x="3700440" y="3451320"/>
            <a:ext cx="925560" cy="25686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Freeform 5"/>
          <p:cNvSpPr/>
          <p:nvPr/>
        </p:nvSpPr>
        <p:spPr>
          <a:xfrm>
            <a:off x="1835280" y="1441440"/>
            <a:ext cx="5530680" cy="210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Freeform 6"/>
          <p:cNvSpPr/>
          <p:nvPr/>
        </p:nvSpPr>
        <p:spPr>
          <a:xfrm>
            <a:off x="4484520" y="914400"/>
            <a:ext cx="166680" cy="3380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Rectangle 7"/>
          <p:cNvSpPr/>
          <p:nvPr/>
        </p:nvSpPr>
        <p:spPr>
          <a:xfrm>
            <a:off x="6705720" y="3886200"/>
            <a:ext cx="2057400" cy="2362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Rectangle 8"/>
          <p:cNvSpPr/>
          <p:nvPr/>
        </p:nvSpPr>
        <p:spPr>
          <a:xfrm>
            <a:off x="838080" y="3848040"/>
            <a:ext cx="2362320" cy="2400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 Box 9"/>
          <p:cNvSpPr/>
          <p:nvPr/>
        </p:nvSpPr>
        <p:spPr>
          <a:xfrm>
            <a:off x="914400" y="3962520"/>
            <a:ext cx="2209680" cy="2209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zheimer’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s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ly - Young Ons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rmal Ons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9" name="Group 10"/>
          <p:cNvGrpSpPr/>
          <p:nvPr/>
        </p:nvGrpSpPr>
        <p:grpSpPr>
          <a:xfrm>
            <a:off x="3733920" y="4038480"/>
            <a:ext cx="1330200" cy="1150920"/>
            <a:chOff x="3733920" y="4038480"/>
            <a:chExt cx="1330200" cy="1150920"/>
          </a:xfrm>
        </p:grpSpPr>
        <p:sp>
          <p:nvSpPr>
            <p:cNvPr id="490" name="Rectangle 11"/>
            <p:cNvSpPr/>
            <p:nvPr/>
          </p:nvSpPr>
          <p:spPr>
            <a:xfrm>
              <a:off x="3733920" y="4038480"/>
              <a:ext cx="1330200" cy="115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Text Box 12"/>
            <p:cNvSpPr/>
            <p:nvPr/>
          </p:nvSpPr>
          <p:spPr>
            <a:xfrm>
              <a:off x="3835440" y="4240080"/>
              <a:ext cx="1125720" cy="897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Vascula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Dementia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(Multi-infarct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2" name="Text Box 13"/>
          <p:cNvSpPr/>
          <p:nvPr/>
        </p:nvSpPr>
        <p:spPr>
          <a:xfrm>
            <a:off x="5410080" y="3886200"/>
            <a:ext cx="106704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Lewy Body  Dement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 Box 14"/>
          <p:cNvSpPr/>
          <p:nvPr/>
        </p:nvSpPr>
        <p:spPr>
          <a:xfrm>
            <a:off x="3062160" y="2270160"/>
            <a:ext cx="2967120" cy="60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DEMENT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Rectangle 15"/>
          <p:cNvSpPr/>
          <p:nvPr/>
        </p:nvSpPr>
        <p:spPr>
          <a:xfrm>
            <a:off x="5334120" y="5029200"/>
            <a:ext cx="121896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 Box 16"/>
          <p:cNvSpPr/>
          <p:nvPr/>
        </p:nvSpPr>
        <p:spPr>
          <a:xfrm>
            <a:off x="6781680" y="3962520"/>
            <a:ext cx="1981440" cy="2209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Other Dementi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Genetic syndr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Metabolic px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ETOH rela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Drugs/toxin expos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White matter dise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Mass eff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Depression(?) or Other Mental cond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Infections – BBB cro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Parkinson’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 Box 17"/>
          <p:cNvSpPr/>
          <p:nvPr/>
        </p:nvSpPr>
        <p:spPr>
          <a:xfrm>
            <a:off x="5410080" y="5105520"/>
            <a:ext cx="114300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Fronto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Temporal Lobe Dementi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Alzheimer’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info l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ent memory wor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lems finding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s-spea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impulsive or indecis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ts l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ice changes over 6 months – 1 y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Two forms of Alzheimer’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0" name=""/>
          <p:cNvSpPr txBox="1"/>
          <p:nvPr/>
        </p:nvSpPr>
        <p:spPr>
          <a:xfrm>
            <a:off x="117324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ng Onset (30-6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one with Down’s Syndrome (35-55+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rly symptoms diffe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ss language, attention, self-care, emotional con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re self-stim, seizures, behavior px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er people – in families &amp; N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ed symptom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blems at work, in relationships, with law enforcement, with money, with drink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ster progression (2-5 yea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ly MISSED as a d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Most Common Alzheimer’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rmal Onset – after age 6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65 about 5-10% have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85 about 45-50% have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dual onset (8-12 years in dura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gression Pattern Predic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Y 20% of early stage is diagno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Vascular Dementia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dden chan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cture varies by per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have bounce back &amp; bad d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dgment and behavior ‘not the same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otty lo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otional &amp; energy shif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2" descr=""/>
          <p:cNvPicPr/>
          <p:nvPr/>
        </p:nvPicPr>
        <p:blipFill>
          <a:blip r:embed="rId1"/>
          <a:stretch/>
        </p:blipFill>
        <p:spPr>
          <a:xfrm>
            <a:off x="2076480" y="380880"/>
            <a:ext cx="499104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Lewy Body Dementia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8412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vement problems - Fa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ual Hallucin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e motor problems – hands &amp; swallow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pisodes of rigidity &amp; synco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omnia &amp; Nightma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uctuations in 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ug responses can be extreme &amp; str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Fronto-Temporal Dementia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4560" y="175248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types (includes Pick’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ntal – impulse and behavior control lo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ys unexpected, rude, mean, odd things to oth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-inhibited – food, drink, sex, emotions, 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mporal – language lo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’t speak or get words o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’t understand what is said, sound fluent – nonsense w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WordArt 2"/>
          <p:cNvSpPr txBox="1"/>
          <p:nvPr/>
        </p:nvSpPr>
        <p:spPr>
          <a:xfrm>
            <a:off x="1143000" y="1066680"/>
            <a:ext cx="678168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Brain Failur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511" name="Text Box 3"/>
          <p:cNvSpPr/>
          <p:nvPr/>
        </p:nvSpPr>
        <p:spPr>
          <a:xfrm>
            <a:off x="1371600" y="5334120"/>
            <a:ext cx="716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The person’s brain is dy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Four Cases…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One – Anit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Two – Fran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Three – Mar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Four – Glen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26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0" y="190440"/>
            <a:ext cx="9144000" cy="121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 Narrow"/>
              </a:rPr>
              <a:t>Positron Emission Tomography (PET) 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Arial Narrow"/>
              </a:rPr>
              <a:t>Alzheimer’s Disease Progression vs. Normal Brains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3" name="Rectangle 3"/>
          <p:cNvSpPr/>
          <p:nvPr/>
        </p:nvSpPr>
        <p:spPr>
          <a:xfrm>
            <a:off x="0" y="6609600"/>
            <a:ext cx="6961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G. Small, UCLA School of Medicin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 Box 4"/>
          <p:cNvSpPr/>
          <p:nvPr/>
        </p:nvSpPr>
        <p:spPr>
          <a:xfrm>
            <a:off x="976680" y="1521360"/>
            <a:ext cx="13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Norm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 Box 5"/>
          <p:cNvSpPr/>
          <p:nvPr/>
        </p:nvSpPr>
        <p:spPr>
          <a:xfrm>
            <a:off x="2675880" y="1444680"/>
            <a:ext cx="193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Early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lzheimer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6"/>
          <p:cNvSpPr/>
          <p:nvPr/>
        </p:nvSpPr>
        <p:spPr>
          <a:xfrm>
            <a:off x="4809600" y="1444680"/>
            <a:ext cx="193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Late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lzheimer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7"/>
          <p:cNvSpPr/>
          <p:nvPr/>
        </p:nvSpPr>
        <p:spPr>
          <a:xfrm>
            <a:off x="7470360" y="1445400"/>
            <a:ext cx="9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hi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Picture 8" descr="Small_6"/>
          <p:cNvPicPr/>
          <p:nvPr/>
        </p:nvPicPr>
        <p:blipFill>
          <a:blip r:embed="rId1"/>
          <a:stretch/>
        </p:blipFill>
        <p:spPr>
          <a:xfrm>
            <a:off x="380880" y="2362320"/>
            <a:ext cx="8342280" cy="4203720"/>
          </a:xfrm>
          <a:prstGeom prst="rect">
            <a:avLst/>
          </a:prstGeom>
          <a:ln w="28440">
            <a:solidFill>
              <a:srgbClr val="003366"/>
            </a:solidFill>
            <a:miter/>
          </a:ln>
        </p:spPr>
      </p:pic>
      <p:sp>
        <p:nvSpPr>
          <p:cNvPr id="519" name="Line 9"/>
          <p:cNvSpPr/>
          <p:nvPr/>
        </p:nvSpPr>
        <p:spPr>
          <a:xfrm flipV="1">
            <a:off x="3133800" y="3938400"/>
            <a:ext cx="172800" cy="291960"/>
          </a:xfrm>
          <a:prstGeom prst="line">
            <a:avLst/>
          </a:prstGeom>
          <a:ln w="2844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Line 10"/>
          <p:cNvSpPr/>
          <p:nvPr/>
        </p:nvSpPr>
        <p:spPr>
          <a:xfrm flipV="1">
            <a:off x="5054760" y="3938400"/>
            <a:ext cx="171360" cy="291960"/>
          </a:xfrm>
          <a:prstGeom prst="line">
            <a:avLst/>
          </a:prstGeom>
          <a:ln w="2844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Line 11"/>
          <p:cNvSpPr/>
          <p:nvPr/>
        </p:nvSpPr>
        <p:spPr>
          <a:xfrm flipV="1">
            <a:off x="5054760" y="6072120"/>
            <a:ext cx="171360" cy="292320"/>
          </a:xfrm>
          <a:prstGeom prst="line">
            <a:avLst/>
          </a:prstGeom>
          <a:ln w="2844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Line 12"/>
          <p:cNvSpPr/>
          <p:nvPr/>
        </p:nvSpPr>
        <p:spPr>
          <a:xfrm flipH="1" flipV="1">
            <a:off x="6102360" y="6072120"/>
            <a:ext cx="171360" cy="292320"/>
          </a:xfrm>
          <a:prstGeom prst="line">
            <a:avLst/>
          </a:prstGeom>
          <a:ln w="2844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Line 13"/>
          <p:cNvSpPr/>
          <p:nvPr/>
        </p:nvSpPr>
        <p:spPr>
          <a:xfrm flipH="1" flipV="1">
            <a:off x="6102360" y="3938400"/>
            <a:ext cx="171360" cy="291960"/>
          </a:xfrm>
          <a:prstGeom prst="line">
            <a:avLst/>
          </a:prstGeom>
          <a:ln w="2844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Line 14"/>
          <p:cNvSpPr/>
          <p:nvPr/>
        </p:nvSpPr>
        <p:spPr>
          <a:xfrm flipH="1" flipV="1">
            <a:off x="4241880" y="3938400"/>
            <a:ext cx="171360" cy="291960"/>
          </a:xfrm>
          <a:prstGeom prst="line">
            <a:avLst/>
          </a:prstGeom>
          <a:ln w="2844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Line 15"/>
          <p:cNvSpPr/>
          <p:nvPr/>
        </p:nvSpPr>
        <p:spPr>
          <a:xfrm>
            <a:off x="5054760" y="4603680"/>
            <a:ext cx="171360" cy="292320"/>
          </a:xfrm>
          <a:prstGeom prst="line">
            <a:avLst/>
          </a:prstGeom>
          <a:ln w="2844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Line 16"/>
          <p:cNvSpPr/>
          <p:nvPr/>
        </p:nvSpPr>
        <p:spPr>
          <a:xfrm flipH="1">
            <a:off x="6102360" y="4603680"/>
            <a:ext cx="171360" cy="292320"/>
          </a:xfrm>
          <a:prstGeom prst="line">
            <a:avLst/>
          </a:prstGeom>
          <a:ln w="2844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Line 17"/>
          <p:cNvSpPr/>
          <p:nvPr/>
        </p:nvSpPr>
        <p:spPr>
          <a:xfrm>
            <a:off x="5054760" y="2665440"/>
            <a:ext cx="171360" cy="291960"/>
          </a:xfrm>
          <a:prstGeom prst="line">
            <a:avLst/>
          </a:prstGeom>
          <a:ln w="2844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Line 18"/>
          <p:cNvSpPr/>
          <p:nvPr/>
        </p:nvSpPr>
        <p:spPr>
          <a:xfrm flipH="1">
            <a:off x="6102360" y="2665440"/>
            <a:ext cx="171360" cy="291960"/>
          </a:xfrm>
          <a:prstGeom prst="line">
            <a:avLst/>
          </a:prstGeom>
          <a:ln w="2844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9" name="Picture 19" descr=""/>
          <p:cNvPicPr/>
          <p:nvPr/>
        </p:nvPicPr>
        <p:blipFill>
          <a:blip r:embed="rId2"/>
          <a:stretch/>
        </p:blipFill>
        <p:spPr>
          <a:xfrm>
            <a:off x="0" y="1333440"/>
            <a:ext cx="9144000" cy="986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5490a8"/>
            </a:outerShdw>
          </a:effectLst>
        </p:spPr>
      </p:pic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d0d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0" name="Picture 1" descr="brain compare.jpg"/>
          <p:cNvPicPr/>
          <p:nvPr/>
        </p:nvPicPr>
        <p:blipFill>
          <a:blip r:embed="rId1"/>
          <a:stretch/>
        </p:blipFill>
        <p:spPr>
          <a:xfrm>
            <a:off x="0" y="344520"/>
            <a:ext cx="9144000" cy="6168960"/>
          </a:xfrm>
          <a:prstGeom prst="rect">
            <a:avLst/>
          </a:prstGeom>
          <a:ln w="0">
            <a:noFill/>
          </a:ln>
        </p:spPr>
      </p:pic>
      <p:sp>
        <p:nvSpPr>
          <p:cNvPr id="531" name="TextBox 2"/>
          <p:cNvSpPr/>
          <p:nvPr/>
        </p:nvSpPr>
        <p:spPr>
          <a:xfrm>
            <a:off x="685800" y="6019920"/>
            <a:ext cx="266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Normal B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Box 3"/>
          <p:cNvSpPr/>
          <p:nvPr/>
        </p:nvSpPr>
        <p:spPr>
          <a:xfrm>
            <a:off x="5334120" y="6019920"/>
            <a:ext cx="304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Alzheimers B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TextBox 4"/>
          <p:cNvSpPr/>
          <p:nvPr/>
        </p:nvSpPr>
        <p:spPr>
          <a:xfrm>
            <a:off x="304920" y="6629400"/>
            <a:ext cx="4190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From  A Broken Brain, University of Alabama, Tuscaloosa - 200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d0d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Picture 1" descr="Memory - learning.jpg"/>
          <p:cNvPicPr/>
          <p:nvPr/>
        </p:nvPicPr>
        <p:blipFill>
          <a:blip r:embed="rId1"/>
          <a:stretch/>
        </p:blipFill>
        <p:spPr>
          <a:xfrm>
            <a:off x="609480" y="0"/>
            <a:ext cx="5096160" cy="6858000"/>
          </a:xfrm>
          <a:prstGeom prst="rect">
            <a:avLst/>
          </a:prstGeom>
          <a:ln w="0">
            <a:noFill/>
          </a:ln>
        </p:spPr>
      </p:pic>
      <p:sp>
        <p:nvSpPr>
          <p:cNvPr id="535" name="TextBox 2"/>
          <p:cNvSpPr/>
          <p:nvPr/>
        </p:nvSpPr>
        <p:spPr>
          <a:xfrm>
            <a:off x="5867280" y="2438280"/>
            <a:ext cx="28195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Learning &amp; Memory Cen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Hippocam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BIG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Oval 3"/>
          <p:cNvSpPr/>
          <p:nvPr/>
        </p:nvSpPr>
        <p:spPr>
          <a:xfrm>
            <a:off x="2209680" y="1905120"/>
            <a:ext cx="2210040" cy="1752480"/>
          </a:xfrm>
          <a:prstGeom prst="ellipse">
            <a:avLst/>
          </a:prstGeom>
          <a:noFill/>
          <a:ln w="381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Oval 4"/>
          <p:cNvSpPr/>
          <p:nvPr/>
        </p:nvSpPr>
        <p:spPr>
          <a:xfrm>
            <a:off x="2362320" y="4952880"/>
            <a:ext cx="2057400" cy="1447920"/>
          </a:xfrm>
          <a:prstGeom prst="ellipse">
            <a:avLst/>
          </a:prstGeom>
          <a:noFill/>
          <a:ln w="381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Box 5"/>
          <p:cNvSpPr/>
          <p:nvPr/>
        </p:nvSpPr>
        <p:spPr>
          <a:xfrm>
            <a:off x="4952880" y="6400800"/>
            <a:ext cx="41911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From  A Broken Brain, University of Alabama, Tuscaloosa - 200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d0d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9" name="Picture 1" descr="understanding language.jpg"/>
          <p:cNvPicPr/>
          <p:nvPr/>
        </p:nvPicPr>
        <p:blipFill>
          <a:blip r:embed="rId1"/>
          <a:stretch/>
        </p:blipFill>
        <p:spPr>
          <a:xfrm>
            <a:off x="380880" y="0"/>
            <a:ext cx="8305920" cy="6229440"/>
          </a:xfrm>
          <a:prstGeom prst="rect">
            <a:avLst/>
          </a:prstGeom>
          <a:ln w="0">
            <a:noFill/>
          </a:ln>
        </p:spPr>
      </p:pic>
      <p:sp>
        <p:nvSpPr>
          <p:cNvPr id="540" name="TextBox 2"/>
          <p:cNvSpPr/>
          <p:nvPr/>
        </p:nvSpPr>
        <p:spPr>
          <a:xfrm>
            <a:off x="304920" y="6324480"/>
            <a:ext cx="845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Understanding Language – BIG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Oval 3"/>
          <p:cNvSpPr/>
          <p:nvPr/>
        </p:nvSpPr>
        <p:spPr>
          <a:xfrm rot="900000">
            <a:off x="1676160" y="2895480"/>
            <a:ext cx="2133360" cy="3353040"/>
          </a:xfrm>
          <a:prstGeom prst="ellipse">
            <a:avLst/>
          </a:prstGeom>
          <a:noFill/>
          <a:ln w="381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Oval 4"/>
          <p:cNvSpPr/>
          <p:nvPr/>
        </p:nvSpPr>
        <p:spPr>
          <a:xfrm rot="1200000">
            <a:off x="5847840" y="2972880"/>
            <a:ext cx="2160720" cy="3232440"/>
          </a:xfrm>
          <a:prstGeom prst="ellipse">
            <a:avLst/>
          </a:prstGeom>
          <a:noFill/>
          <a:ln w="381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Box 5"/>
          <p:cNvSpPr/>
          <p:nvPr/>
        </p:nvSpPr>
        <p:spPr>
          <a:xfrm>
            <a:off x="4952880" y="0"/>
            <a:ext cx="41911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From  A Broken Brain, University of Alabama, Tuscaloosa - 200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d0d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4" name="Picture 1" descr="understanding language.jpg"/>
          <p:cNvPicPr/>
          <p:nvPr/>
        </p:nvPicPr>
        <p:blipFill>
          <a:blip r:embed="rId1"/>
          <a:stretch/>
        </p:blipFill>
        <p:spPr>
          <a:xfrm>
            <a:off x="380880" y="0"/>
            <a:ext cx="8305920" cy="6229440"/>
          </a:xfrm>
          <a:prstGeom prst="rect">
            <a:avLst/>
          </a:prstGeom>
          <a:ln w="0">
            <a:noFill/>
          </a:ln>
        </p:spPr>
      </p:pic>
      <p:sp>
        <p:nvSpPr>
          <p:cNvPr id="545" name="TextBox 2"/>
          <p:cNvSpPr/>
          <p:nvPr/>
        </p:nvSpPr>
        <p:spPr>
          <a:xfrm>
            <a:off x="1676520" y="6273720"/>
            <a:ext cx="541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Hearing Sound – Not Chan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Oval 3"/>
          <p:cNvSpPr/>
          <p:nvPr/>
        </p:nvSpPr>
        <p:spPr>
          <a:xfrm rot="900000">
            <a:off x="1335240" y="1844280"/>
            <a:ext cx="2133360" cy="1457280"/>
          </a:xfrm>
          <a:prstGeom prst="ellipse">
            <a:avLst/>
          </a:prstGeom>
          <a:noFill/>
          <a:ln w="381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Oval 5"/>
          <p:cNvSpPr/>
          <p:nvPr/>
        </p:nvSpPr>
        <p:spPr>
          <a:xfrm rot="900000">
            <a:off x="5867280" y="2079720"/>
            <a:ext cx="2133720" cy="1457280"/>
          </a:xfrm>
          <a:prstGeom prst="ellipse">
            <a:avLst/>
          </a:prstGeom>
          <a:noFill/>
          <a:ln w="381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Box 6"/>
          <p:cNvSpPr/>
          <p:nvPr/>
        </p:nvSpPr>
        <p:spPr>
          <a:xfrm>
            <a:off x="4952880" y="0"/>
            <a:ext cx="41911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From  A Broken Brain, University of Alabama, Tuscaloosa - 200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d0d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9" name="Picture 1" descr="sensation-movement-language.jpg"/>
          <p:cNvPicPr/>
          <p:nvPr/>
        </p:nvPicPr>
        <p:blipFill>
          <a:blip r:embed="rId1"/>
          <a:stretch/>
        </p:blipFill>
        <p:spPr>
          <a:xfrm>
            <a:off x="457200" y="0"/>
            <a:ext cx="5057640" cy="6858000"/>
          </a:xfrm>
          <a:prstGeom prst="rect">
            <a:avLst/>
          </a:prstGeom>
          <a:ln w="0">
            <a:noFill/>
          </a:ln>
        </p:spPr>
      </p:pic>
      <p:sp>
        <p:nvSpPr>
          <p:cNvPr id="550" name="TextBox 2"/>
          <p:cNvSpPr/>
          <p:nvPr/>
        </p:nvSpPr>
        <p:spPr>
          <a:xfrm>
            <a:off x="5715000" y="380880"/>
            <a:ext cx="3124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Sensory Str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Motor Str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White Matter Conn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BIG CHA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Box 4"/>
          <p:cNvSpPr/>
          <p:nvPr/>
        </p:nvSpPr>
        <p:spPr>
          <a:xfrm>
            <a:off x="5715000" y="4952880"/>
            <a:ext cx="3048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Calibri"/>
              </a:rPr>
              <a:t>Formal Speech &amp;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Calibri"/>
              </a:rPr>
              <a:t>Ce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Calibri"/>
              </a:rPr>
              <a:t>HUGE CHA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Oval 10"/>
          <p:cNvSpPr/>
          <p:nvPr/>
        </p:nvSpPr>
        <p:spPr>
          <a:xfrm>
            <a:off x="914400" y="380880"/>
            <a:ext cx="4800600" cy="19814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Oval 11"/>
          <p:cNvSpPr/>
          <p:nvPr/>
        </p:nvSpPr>
        <p:spPr>
          <a:xfrm>
            <a:off x="2133720" y="3809880"/>
            <a:ext cx="3352680" cy="14479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Oval 12"/>
          <p:cNvSpPr/>
          <p:nvPr/>
        </p:nvSpPr>
        <p:spPr>
          <a:xfrm>
            <a:off x="3276720" y="2209680"/>
            <a:ext cx="1752480" cy="1371600"/>
          </a:xfrm>
          <a:prstGeom prst="ellipse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Oval 13"/>
          <p:cNvSpPr/>
          <p:nvPr/>
        </p:nvSpPr>
        <p:spPr>
          <a:xfrm>
            <a:off x="3962520" y="5486400"/>
            <a:ext cx="838080" cy="990720"/>
          </a:xfrm>
          <a:prstGeom prst="ellipse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Oval 14"/>
          <p:cNvSpPr/>
          <p:nvPr/>
        </p:nvSpPr>
        <p:spPr>
          <a:xfrm>
            <a:off x="1371600" y="2362320"/>
            <a:ext cx="1905120" cy="1371600"/>
          </a:xfrm>
          <a:prstGeom prst="ellipse">
            <a:avLst/>
          </a:prstGeom>
          <a:noFill/>
          <a:ln w="381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Oval 15"/>
          <p:cNvSpPr/>
          <p:nvPr/>
        </p:nvSpPr>
        <p:spPr>
          <a:xfrm>
            <a:off x="1600200" y="5181480"/>
            <a:ext cx="1523880" cy="1371600"/>
          </a:xfrm>
          <a:prstGeom prst="ellipse">
            <a:avLst/>
          </a:prstGeom>
          <a:noFill/>
          <a:ln w="381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Box 16"/>
          <p:cNvSpPr/>
          <p:nvPr/>
        </p:nvSpPr>
        <p:spPr>
          <a:xfrm>
            <a:off x="5486400" y="3048120"/>
            <a:ext cx="3200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f0"/>
                </a:solidFill>
                <a:latin typeface="Arial"/>
              </a:rPr>
              <a:t>Automatic  Spee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f0"/>
                </a:solidFill>
                <a:latin typeface="Arial"/>
              </a:rPr>
              <a:t>Rhythm – Mus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f0"/>
                </a:solidFill>
                <a:latin typeface="Arial"/>
              </a:rPr>
              <a:t>Exple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f0"/>
                </a:solidFill>
                <a:latin typeface="Arial"/>
              </a:rPr>
              <a:t>PRESER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Box 16"/>
          <p:cNvSpPr/>
          <p:nvPr/>
        </p:nvSpPr>
        <p:spPr>
          <a:xfrm>
            <a:off x="0" y="6595920"/>
            <a:ext cx="41911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From  A Broken Brain, University of Alabama, Tuscaloosa - 200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d0d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0" name="Picture 1" descr="emotional control.jpg"/>
          <p:cNvPicPr/>
          <p:nvPr/>
        </p:nvPicPr>
        <p:blipFill>
          <a:blip r:embed="rId1"/>
          <a:stretch/>
        </p:blipFill>
        <p:spPr>
          <a:xfrm>
            <a:off x="380880" y="0"/>
            <a:ext cx="5205600" cy="6858000"/>
          </a:xfrm>
          <a:prstGeom prst="rect">
            <a:avLst/>
          </a:prstGeom>
          <a:ln w="0">
            <a:noFill/>
          </a:ln>
        </p:spPr>
      </p:pic>
      <p:sp>
        <p:nvSpPr>
          <p:cNvPr id="561" name="TextBox 2"/>
          <p:cNvSpPr/>
          <p:nvPr/>
        </p:nvSpPr>
        <p:spPr>
          <a:xfrm>
            <a:off x="5638680" y="1905120"/>
            <a:ext cx="30481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Executive Control Cen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Emotions Behavior  Judg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Reaso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Box 3"/>
          <p:cNvSpPr/>
          <p:nvPr/>
        </p:nvSpPr>
        <p:spPr>
          <a:xfrm>
            <a:off x="4952880" y="6595920"/>
            <a:ext cx="41911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From  A Broken Brain, University of Alabama, Tuscaloosa - 200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d0d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3" name="Picture 1" descr="brain compare.jpg"/>
          <p:cNvPicPr/>
          <p:nvPr/>
        </p:nvPicPr>
        <p:blipFill>
          <a:blip r:embed="rId1"/>
          <a:stretch/>
        </p:blipFill>
        <p:spPr>
          <a:xfrm>
            <a:off x="0" y="344520"/>
            <a:ext cx="9144000" cy="6168960"/>
          </a:xfrm>
          <a:prstGeom prst="rect">
            <a:avLst/>
          </a:prstGeom>
          <a:ln w="0">
            <a:noFill/>
          </a:ln>
        </p:spPr>
      </p:pic>
      <p:sp>
        <p:nvSpPr>
          <p:cNvPr id="564" name="TextBox 2"/>
          <p:cNvSpPr/>
          <p:nvPr/>
        </p:nvSpPr>
        <p:spPr>
          <a:xfrm>
            <a:off x="685800" y="601992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Vision Center – BIG CHAN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Oval 4"/>
          <p:cNvSpPr/>
          <p:nvPr/>
        </p:nvSpPr>
        <p:spPr>
          <a:xfrm>
            <a:off x="304920" y="533520"/>
            <a:ext cx="4495680" cy="1981080"/>
          </a:xfrm>
          <a:prstGeom prst="ellipse">
            <a:avLst/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Oval 5"/>
          <p:cNvSpPr/>
          <p:nvPr/>
        </p:nvSpPr>
        <p:spPr>
          <a:xfrm>
            <a:off x="5638680" y="1066680"/>
            <a:ext cx="3048120" cy="1600200"/>
          </a:xfrm>
          <a:prstGeom prst="ellipse">
            <a:avLst/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Box 6"/>
          <p:cNvSpPr/>
          <p:nvPr/>
        </p:nvSpPr>
        <p:spPr>
          <a:xfrm>
            <a:off x="4952880" y="0"/>
            <a:ext cx="41911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From  A Broken Brain, University of Alabama, Tuscaloosa - 200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173240" y="304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What Should Caregivers DO?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1173240" y="13712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the facility’s ability to handle wandering, eloping, escaping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reen pre-admission &amp; decide wis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 At-Risk Wander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 those At-Ri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 Plans for At-Risk Preven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Plans to Prev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 Recovery Pl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actice Recovery Pl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Determine the FACILITY’s ability to handle wandering…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1523880" y="1981080"/>
            <a:ext cx="7421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ysical lo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its/entrance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ffing nu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ff ski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onship with law enforc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ess to locator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licies and procedur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actice opportunities and rout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173240" y="304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Definitions…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173240" y="11426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itical wander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anyone with dementia who leaves and wanders away from a supervised care situation, a controlled environment, or cannot be loc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-Risk Wander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anyone who has a history of or current behavior of getting lost, dementia, dislike for current situation, med change, pacing, disorientation, disturbed wake/sleep cycle, ‘delusional thinking’, desire to leave or get somewhere, exit seeking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scape –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nned and purposeful secret leav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opement –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ving a location to get out and 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oal directed wander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movement attributed to some goal – not trying escape so much as do someth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ndom wander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movement appears to be random and without purpose- following, seeing and going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Box 3"/>
          <p:cNvSpPr/>
          <p:nvPr/>
        </p:nvSpPr>
        <p:spPr>
          <a:xfrm>
            <a:off x="1295280" y="6324480"/>
            <a:ext cx="419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apted from </a:t>
            </a:r>
            <a:r>
              <a:rPr b="0" lang="en-US" sz="1400" spc="-1" strike="noStrike" u="sng">
                <a:solidFill>
                  <a:srgbClr val="264c99"/>
                </a:solidFill>
                <a:uFillTx/>
                <a:latin typeface="Arial"/>
                <a:hlinkClick r:id="rId1"/>
              </a:rPr>
              <a:t>www.sar-dbs.co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Screen wisely – on interview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117324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story of wande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orientation episo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agnosis (level) &amp; awareness of impair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ical reaction to distress or an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vious daily routines and habits related to going places/work/l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miliarity with the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ds &amp; recent med chan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cohol &amp; drug use &amp; his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gns of the UN-diagnosed cond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ID At-Risk Wanderer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1173240" y="15235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story of wandering or disori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agnosis of dementia and still mob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havioral history of avoid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ent medication change or condition 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ting lost in their new lo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ire not to be ‘here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story of alcohol or drug use with no current ac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 Box 5"/>
          <p:cNvSpPr/>
          <p:nvPr/>
        </p:nvSpPr>
        <p:spPr>
          <a:xfrm>
            <a:off x="1295280" y="5715000"/>
            <a:ext cx="701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*** IF AT-RISK Activate ‘COMMUNITY AWARENESS PLAN’ **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Re-Screen…. IF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ndering happe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opement happe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cape happe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THING’ chan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son chan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ff NOTICE ‘something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residents/family members/friends NOTICE somet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COMMUNITY AWARENESS PLAN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1173240" y="18284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t appropriate releases/permissions to share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t ID bracelet/necklace on the per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act and inform local law enforc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orm ALL staff of At-Risk Per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orm family of r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ider possible monitoring/locator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te ‘Wandering Person Data Collection Form’ AND get and store ‘neck wipe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t to know your neighb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ck out your ‘outside’ and modify for safe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ve a schematic of your home/community/fac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Box 3"/>
          <p:cNvSpPr/>
          <p:nvPr/>
        </p:nvSpPr>
        <p:spPr>
          <a:xfrm>
            <a:off x="1143000" y="6553080"/>
            <a:ext cx="5486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d on a Program used by Project Life Saver in NC 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Monitor those At-Risk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ign who will do w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ign when it will be d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ablish the rout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Check on it!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nge it if it is NOT working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Plan to Prevent Wandering/Elopement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ident Ident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ff Edu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ff Behavi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vironmental Suppo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gramming for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ucation for Fami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ing P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Use Plans to Prevent Wandering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the plans happ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 the effectiveness and consist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ep checking on the use routin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inforce &amp; talk about success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ward success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ify when it isn’t working… or happe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Develop Recovery Plan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1173240" y="15238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mely recognition of ‘missing person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mediate response to exit ala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sure ‘security system’ is a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e projected ‘return times’ on sign ou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e AT-RISK resident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where they are supposed to b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rst level search ‘IN HOUSE’ procedure (5 mi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ick head count on unit/in facility – check with all care staf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ift supervisor initiate notification - mis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level search ‘IN HOUSE’ procedure (10 mi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ification t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taf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 searcher – all others maintain status qu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ok all ar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ther rooms, empty spaces, stairwells, porches, closets, bathrooms, beds, common spaces, couches, chairs, other’s beds, floors (hidde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tify authorities - mis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level Search ‘AROUND HOUSE’ procedure (10 mi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 ft from walls &amp; lots– outdoor search (flashlight need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other staff stay on du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TextBox 3"/>
          <p:cNvSpPr/>
          <p:nvPr/>
        </p:nvSpPr>
        <p:spPr>
          <a:xfrm>
            <a:off x="1143000" y="6553080"/>
            <a:ext cx="5486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d on a Program used by Project Life Saver in NC 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Practice Recovery Plan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ucate staf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n ‘known’ dril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n ‘real’ dri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aluate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inforce what work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 on what di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go well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284960" cy="289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"/>
              </a:rPr>
              <a:t>If AT-RISK Wanderers are going to be admitted…</a:t>
            </a:r>
            <a:br>
              <a:rPr sz="4400"/>
            </a:br>
            <a:r>
              <a:rPr b="1" lang="en-US" sz="4400" spc="-1" strike="noStrike">
                <a:solidFill>
                  <a:srgbClr val="003366"/>
                </a:solidFill>
                <a:latin typeface="Arial"/>
              </a:rPr>
              <a:t>Consider enrolling in LOCATOR PROGRAM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1173240" y="3962520"/>
            <a:ext cx="7772400" cy="213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ifesa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locator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of global positioning de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Statistics on Wandering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er 125,000 people with dementia are critical wanderers each year in the U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increasing number of people with dementia expected – the number may grow to 500,000 by 2040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nly group more likely to wander are childre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Box 3"/>
          <p:cNvSpPr/>
          <p:nvPr/>
        </p:nvSpPr>
        <p:spPr>
          <a:xfrm>
            <a:off x="1295280" y="6019920"/>
            <a:ext cx="350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apted from </a:t>
            </a:r>
            <a:r>
              <a:rPr b="0" lang="en-US" sz="1400" spc="-1" strike="noStrike" u="sng">
                <a:solidFill>
                  <a:srgbClr val="264c99"/>
                </a:solidFill>
                <a:uFillTx/>
                <a:latin typeface="Arial"/>
                <a:hlinkClick r:id="rId1"/>
              </a:rPr>
              <a:t>www.sar-dbs.co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4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4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What do searchers typically Do?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1173240" y="1676520"/>
            <a:ext cx="38145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ly systematic search or res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d patrols to previous ‘found spots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vass neighb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trol along routes/roa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ablish containment po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rly use of trackers at point last se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racking do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arch outward from start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5130360" y="1676520"/>
            <a:ext cx="38149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ir scent dogs in drainage, streams, near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ck for signs along roadw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g teams to sweep in se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arch nearby home si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search of residence &gt; 2x 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t fly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TextBox 4"/>
          <p:cNvSpPr/>
          <p:nvPr/>
        </p:nvSpPr>
        <p:spPr>
          <a:xfrm>
            <a:off x="1295280" y="6324480"/>
            <a:ext cx="419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apted from </a:t>
            </a:r>
            <a:r>
              <a:rPr b="0" lang="en-US" sz="1400" spc="-1" strike="noStrike" u="sng">
                <a:solidFill>
                  <a:srgbClr val="264c99"/>
                </a:solidFill>
                <a:uFillTx/>
                <a:latin typeface="Arial"/>
                <a:hlinkClick r:id="rId1"/>
              </a:rPr>
              <a:t>www.sar-dbs.co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990360" y="456840"/>
            <a:ext cx="795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So What Should You Do </a:t>
            </a:r>
            <a:r>
              <a:rPr b="1" lang="en-US" sz="4000" spc="-1" strike="noStrike" u="sng">
                <a:solidFill>
                  <a:srgbClr val="003366"/>
                </a:solidFill>
                <a:uFillTx/>
                <a:latin typeface="Arial"/>
              </a:rPr>
              <a:t>NOW?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hin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al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connec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plan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practic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get starte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173240" y="457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More In-depth Information</a:t>
            </a:r>
            <a:br>
              <a:rPr sz="4400"/>
            </a:b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for training &amp; building skill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1447920" y="274320"/>
            <a:ext cx="723888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Why Do They Leave? </a:t>
            </a:r>
            <a:br>
              <a:rPr sz="4400"/>
            </a:br>
            <a:r>
              <a:rPr b="1" i="1" lang="en-US" sz="4400" spc="-1" strike="noStrike">
                <a:solidFill>
                  <a:srgbClr val="003366"/>
                </a:solidFill>
                <a:latin typeface="Arial"/>
              </a:rPr>
              <a:t>TRIGGER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1173240" y="2189160"/>
            <a:ext cx="7772400" cy="390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ced in unfamiliar environment (20-28%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w coat – decided to go (13-27%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gument – got angry (23-47%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nge in routine or schedule (23-27%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nt the day away (23%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nge in medication (21%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ft alone in a vehicle (18%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How common is dementia?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s – over 70% of people in care facilities have some degree of dement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ates go up dramatically between ages 65-85 – from 5% to 5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rly on you can ‘miss’ the sig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are over 70-80 different types and causes of dement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  <a:ea typeface="Arial"/>
              </a:rPr>
              <a:t>SO… What is Dementia?</a:t>
            </a: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t is NOT part of normal aging! It is a disea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t is more than just forgetfulness - which is part of normal a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t makes independent life impossib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6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6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ognitive Changes with Aging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99"/>
                </a:solidFill>
                <a:latin typeface="Verdana"/>
              </a:rPr>
              <a:t>Normal changes = </a:t>
            </a:r>
            <a:r>
              <a:rPr b="1" lang="en-US" sz="2200" spc="-1" strike="noStrike">
                <a:solidFill>
                  <a:srgbClr val="006699"/>
                </a:solidFill>
                <a:latin typeface="Verdana"/>
              </a:rPr>
              <a:t>more forgetful &amp; slower to learn</a:t>
            </a:r>
            <a:endParaRPr b="0" lang="en-US" sz="2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99"/>
                </a:solidFill>
                <a:latin typeface="Verdana"/>
              </a:rPr>
              <a:t>MCI </a:t>
            </a:r>
            <a:r>
              <a:rPr b="0" lang="en-US" sz="2200" spc="-1" strike="noStrike">
                <a:solidFill>
                  <a:srgbClr val="006699"/>
                </a:solidFill>
                <a:latin typeface="Arial"/>
              </a:rPr>
              <a:t>–</a:t>
            </a:r>
            <a:r>
              <a:rPr b="0" lang="en-US" sz="2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1" lang="en-US" sz="2200" spc="-1" strike="noStrike">
                <a:solidFill>
                  <a:srgbClr val="006699"/>
                </a:solidFill>
                <a:latin typeface="Verdana"/>
              </a:rPr>
              <a:t>Mild Cognitive Impairment</a:t>
            </a:r>
            <a:r>
              <a:rPr b="0" lang="en-US" sz="2200" spc="-1" strike="noStrike">
                <a:solidFill>
                  <a:srgbClr val="006699"/>
                </a:solidFill>
                <a:latin typeface="Verdana"/>
              </a:rPr>
              <a:t> =1 problem only</a:t>
            </a:r>
            <a:endParaRPr b="0" lang="en-US" sz="2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99"/>
                </a:solidFill>
                <a:latin typeface="Verdana"/>
              </a:rPr>
              <a:t>Immediate recall, word finding  &amp; complex problem solving problems (</a:t>
            </a:r>
            <a:r>
              <a:rPr b="0" lang="en-US" sz="2200" spc="-1" strike="noStrike">
                <a:solidFill>
                  <a:srgbClr val="006699"/>
                </a:solidFill>
                <a:latin typeface="Arial"/>
              </a:rPr>
              <a:t>½</a:t>
            </a:r>
            <a:r>
              <a:rPr b="0" lang="en-US" sz="2200" spc="-1" strike="noStrike">
                <a:solidFill>
                  <a:srgbClr val="006699"/>
                </a:solidFill>
                <a:latin typeface="Verdana"/>
              </a:rPr>
              <a:t> of these folks will develop dementia in 5 yrs)</a:t>
            </a:r>
            <a:endParaRPr b="0" lang="en-US" sz="2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99"/>
                </a:solidFill>
                <a:latin typeface="Verdana"/>
              </a:rPr>
              <a:t>Dementia = </a:t>
            </a:r>
            <a:r>
              <a:rPr b="1" lang="en-US" sz="2200" spc="-1" strike="noStrike">
                <a:solidFill>
                  <a:srgbClr val="006699"/>
                </a:solidFill>
                <a:latin typeface="Verdana"/>
              </a:rPr>
              <a:t>Chronic thinking problems in &gt; 2 areas</a:t>
            </a:r>
            <a:endParaRPr b="0" lang="en-US" sz="2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99"/>
                </a:solidFill>
                <a:latin typeface="Verdana"/>
              </a:rPr>
              <a:t>Delirium =</a:t>
            </a:r>
            <a:r>
              <a:rPr b="1" lang="en-US" sz="2200" spc="-1" strike="noStrike">
                <a:solidFill>
                  <a:srgbClr val="006699"/>
                </a:solidFill>
                <a:latin typeface="Verdana"/>
              </a:rPr>
              <a:t>Rapid changes in thinking &amp; alertness</a:t>
            </a:r>
            <a:endParaRPr b="0" lang="en-US" sz="2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6699"/>
                </a:solidFill>
                <a:latin typeface="Verdana"/>
              </a:rPr>
              <a:t>                         </a:t>
            </a:r>
            <a:r>
              <a:rPr b="0" i="1" lang="en-US" sz="2200" spc="-1" strike="noStrike">
                <a:solidFill>
                  <a:srgbClr val="006699"/>
                </a:solidFill>
                <a:latin typeface="Verdana"/>
              </a:rPr>
              <a:t>(seek medical help immediately )</a:t>
            </a:r>
            <a:endParaRPr b="0" lang="en-US" sz="2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99"/>
                </a:solidFill>
                <a:latin typeface="Verdana"/>
              </a:rPr>
              <a:t>Depression</a:t>
            </a:r>
            <a:r>
              <a:rPr b="1" lang="en-US" sz="2200" spc="-1" strike="noStrike">
                <a:solidFill>
                  <a:srgbClr val="006699"/>
                </a:solidFill>
                <a:latin typeface="Verdana"/>
              </a:rPr>
              <a:t> =</a:t>
            </a:r>
            <a:r>
              <a:rPr b="1" i="1" lang="en-US" sz="2200" spc="-1" strike="noStrike">
                <a:solidFill>
                  <a:srgbClr val="006699"/>
                </a:solidFill>
                <a:latin typeface="Verdana"/>
              </a:rPr>
              <a:t> chronic unless treated, poor quality , I </a:t>
            </a:r>
            <a:r>
              <a:rPr b="1" i="1" lang="en-US" sz="2200" spc="-1" strike="noStrike">
                <a:solidFill>
                  <a:srgbClr val="006699"/>
                </a:solidFill>
                <a:latin typeface="Arial"/>
              </a:rPr>
              <a:t>“</a:t>
            </a:r>
            <a:r>
              <a:rPr b="1" i="1" lang="en-US" sz="2200" spc="-1" strike="noStrike">
                <a:solidFill>
                  <a:srgbClr val="006699"/>
                </a:solidFill>
                <a:latin typeface="Verdana"/>
              </a:rPr>
              <a:t>don</a:t>
            </a:r>
            <a:r>
              <a:rPr b="1" i="1" lang="en-US" sz="2200" spc="-1" strike="noStrike">
                <a:solidFill>
                  <a:srgbClr val="006699"/>
                </a:solidFill>
                <a:latin typeface="Arial"/>
              </a:rPr>
              <a:t>’</a:t>
            </a:r>
            <a:r>
              <a:rPr b="1" i="1" lang="en-US" sz="2200" spc="-1" strike="noStrike">
                <a:solidFill>
                  <a:srgbClr val="006699"/>
                </a:solidFill>
                <a:latin typeface="Verdana"/>
              </a:rPr>
              <a:t>t know</a:t>
            </a:r>
            <a:r>
              <a:rPr b="1" i="1" lang="en-US" sz="2200" spc="-1" strike="noStrike">
                <a:solidFill>
                  <a:srgbClr val="006699"/>
                </a:solidFill>
                <a:latin typeface="Arial"/>
              </a:rPr>
              <a:t>”</a:t>
            </a:r>
            <a:r>
              <a:rPr b="1" i="1" lang="en-US" sz="2200" spc="-1" strike="noStrike">
                <a:solidFill>
                  <a:srgbClr val="006699"/>
                </a:solidFill>
                <a:latin typeface="Verdana"/>
              </a:rPr>
              <a:t>, </a:t>
            </a:r>
            <a:r>
              <a:rPr b="1" i="1" lang="en-US" sz="2200" spc="-1" strike="noStrike">
                <a:solidFill>
                  <a:srgbClr val="006699"/>
                </a:solidFill>
                <a:latin typeface="Arial"/>
              </a:rPr>
              <a:t>“</a:t>
            </a:r>
            <a:r>
              <a:rPr b="1" i="1" lang="en-US" sz="2200" spc="-1" strike="noStrike">
                <a:solidFill>
                  <a:srgbClr val="006699"/>
                </a:solidFill>
                <a:latin typeface="Verdana"/>
              </a:rPr>
              <a:t>I just can</a:t>
            </a:r>
            <a:r>
              <a:rPr b="1" i="1" lang="en-US" sz="2200" spc="-1" strike="noStrike">
                <a:solidFill>
                  <a:srgbClr val="006699"/>
                </a:solidFill>
                <a:latin typeface="Arial"/>
              </a:rPr>
              <a:t>’</a:t>
            </a:r>
            <a:r>
              <a:rPr b="1" i="1" lang="en-US" sz="2200" spc="-1" strike="noStrike">
                <a:solidFill>
                  <a:srgbClr val="006699"/>
                </a:solidFill>
                <a:latin typeface="Verdana"/>
              </a:rPr>
              <a:t>t</a:t>
            </a:r>
            <a:r>
              <a:rPr b="1" i="1" lang="en-US" sz="2200" spc="-1" strike="noStrike">
                <a:solidFill>
                  <a:srgbClr val="006699"/>
                </a:solidFill>
                <a:latin typeface="Arial"/>
              </a:rPr>
              <a:t>”</a:t>
            </a:r>
            <a:r>
              <a:rPr b="1" i="1" lang="en-US" sz="2200" spc="-1" strike="noStrike">
                <a:solidFill>
                  <a:srgbClr val="006699"/>
                </a:solidFill>
                <a:latin typeface="Verdana"/>
              </a:rPr>
              <a:t> responses, no pleasure</a:t>
            </a:r>
            <a:endParaRPr b="0" lang="en-US" sz="2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i="1" lang="en-US" sz="2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i="1" lang="en-US" sz="2200" spc="-1" strike="noStrike">
                <a:solidFill>
                  <a:srgbClr val="006699"/>
                </a:solidFill>
                <a:latin typeface="Verdana"/>
              </a:rPr>
              <a:t>can look like agitation &amp; confusion</a:t>
            </a:r>
            <a:endParaRPr b="0" lang="en-US" sz="2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0" name="Group 2"/>
          <p:cNvGrpSpPr/>
          <p:nvPr/>
        </p:nvGrpSpPr>
        <p:grpSpPr>
          <a:xfrm>
            <a:off x="808920" y="1720800"/>
            <a:ext cx="7822800" cy="4154760"/>
            <a:chOff x="808920" y="1720800"/>
            <a:chExt cx="7822800" cy="4154760"/>
          </a:xfrm>
        </p:grpSpPr>
        <p:grpSp>
          <p:nvGrpSpPr>
            <p:cNvPr id="611" name="Group 3"/>
            <p:cNvGrpSpPr/>
            <p:nvPr/>
          </p:nvGrpSpPr>
          <p:grpSpPr>
            <a:xfrm>
              <a:off x="955080" y="1720800"/>
              <a:ext cx="3427560" cy="3600360"/>
              <a:chOff x="955080" y="1720800"/>
              <a:chExt cx="3427560" cy="3600360"/>
            </a:xfrm>
          </p:grpSpPr>
          <p:pic>
            <p:nvPicPr>
              <p:cNvPr id="612" name="Picture 4" descr="untitled"/>
              <p:cNvPicPr/>
              <p:nvPr/>
            </p:nvPicPr>
            <p:blipFill>
              <a:blip r:embed="rId1"/>
              <a:srcRect l="3578" t="4595" r="52842" b="12304"/>
              <a:stretch/>
            </p:blipFill>
            <p:spPr>
              <a:xfrm>
                <a:off x="956520" y="1738080"/>
                <a:ext cx="3420360" cy="358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13" name="Rectangle 5"/>
              <p:cNvSpPr/>
              <p:nvPr/>
            </p:nvSpPr>
            <p:spPr>
              <a:xfrm>
                <a:off x="955080" y="1720800"/>
                <a:ext cx="3427560" cy="3592440"/>
              </a:xfrm>
              <a:prstGeom prst="rect">
                <a:avLst/>
              </a:prstGeom>
              <a:noFill/>
              <a:ln w="2556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4" name="Group 6"/>
            <p:cNvGrpSpPr/>
            <p:nvPr/>
          </p:nvGrpSpPr>
          <p:grpSpPr>
            <a:xfrm>
              <a:off x="4766760" y="1720800"/>
              <a:ext cx="3416400" cy="3601800"/>
              <a:chOff x="4766760" y="1720800"/>
              <a:chExt cx="3416400" cy="3601800"/>
            </a:xfrm>
          </p:grpSpPr>
          <p:pic>
            <p:nvPicPr>
              <p:cNvPr id="615" name="Picture 7" descr="untitled"/>
              <p:cNvPicPr/>
              <p:nvPr/>
            </p:nvPicPr>
            <p:blipFill>
              <a:blip r:embed="rId2"/>
              <a:srcRect l="53748" t="4312" r="2855" b="12304"/>
              <a:stretch/>
            </p:blipFill>
            <p:spPr>
              <a:xfrm>
                <a:off x="4766760" y="1726920"/>
                <a:ext cx="3406320" cy="3595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16" name="Rectangle 8"/>
              <p:cNvSpPr/>
              <p:nvPr/>
            </p:nvSpPr>
            <p:spPr>
              <a:xfrm>
                <a:off x="4766760" y="1720800"/>
                <a:ext cx="3416400" cy="3592440"/>
              </a:xfrm>
              <a:prstGeom prst="rect">
                <a:avLst/>
              </a:prstGeom>
              <a:noFill/>
              <a:ln w="2556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7" name="Text Box 9"/>
            <p:cNvSpPr/>
            <p:nvPr/>
          </p:nvSpPr>
          <p:spPr>
            <a:xfrm>
              <a:off x="808920" y="5470200"/>
              <a:ext cx="388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ET Scan of 20-Year-Old Brai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Text Box 10"/>
            <p:cNvSpPr/>
            <p:nvPr/>
          </p:nvSpPr>
          <p:spPr>
            <a:xfrm>
              <a:off x="4386600" y="5446440"/>
              <a:ext cx="4245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PET Scan of 80-Year-Old Brain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42800" y="241200"/>
            <a:ext cx="8244000" cy="1030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6666"/>
                </a:solidFill>
                <a:latin typeface="Verdana"/>
              </a:rPr>
              <a:t>PET and Aging</a:t>
            </a:r>
            <a:endParaRPr b="0" lang="en-US" sz="6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0" name="Text Box 12"/>
          <p:cNvSpPr/>
          <p:nvPr/>
        </p:nvSpPr>
        <p:spPr>
          <a:xfrm>
            <a:off x="558720" y="62326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DEAR, 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0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0" y="190440"/>
            <a:ext cx="9144000" cy="102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99"/>
                </a:solidFill>
                <a:latin typeface="Arial Narrow"/>
              </a:rPr>
              <a:t>Positron Emission Tomography (PET) </a:t>
            </a:r>
            <a:br>
              <a:rPr sz="3600"/>
            </a:br>
            <a:r>
              <a:rPr b="0" lang="en-US" sz="3600" spc="-1" strike="noStrike">
                <a:solidFill>
                  <a:srgbClr val="006699"/>
                </a:solidFill>
                <a:latin typeface="Arial Narrow"/>
              </a:rPr>
              <a:t>Alzheimer’s Disease Progression vs. Normal Brains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2" name="Rectangle 3"/>
          <p:cNvSpPr/>
          <p:nvPr/>
        </p:nvSpPr>
        <p:spPr>
          <a:xfrm>
            <a:off x="0" y="6609600"/>
            <a:ext cx="6961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G. Small, UCLA School of Medicin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Text Box 4"/>
          <p:cNvSpPr/>
          <p:nvPr/>
        </p:nvSpPr>
        <p:spPr>
          <a:xfrm>
            <a:off x="976680" y="1597680"/>
            <a:ext cx="1332720" cy="45972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Norm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Text Box 5"/>
          <p:cNvSpPr/>
          <p:nvPr/>
        </p:nvSpPr>
        <p:spPr>
          <a:xfrm>
            <a:off x="2599920" y="1444680"/>
            <a:ext cx="1939320" cy="82548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Early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lzheimer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Text Box 6"/>
          <p:cNvSpPr/>
          <p:nvPr/>
        </p:nvSpPr>
        <p:spPr>
          <a:xfrm>
            <a:off x="4657320" y="1444680"/>
            <a:ext cx="1939320" cy="82548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Late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lzheimer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Text Box 7"/>
          <p:cNvSpPr/>
          <p:nvPr/>
        </p:nvSpPr>
        <p:spPr>
          <a:xfrm>
            <a:off x="7165440" y="1674000"/>
            <a:ext cx="953280" cy="45972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hi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7" name="Picture 8" descr="Small_6"/>
          <p:cNvPicPr/>
          <p:nvPr/>
        </p:nvPicPr>
        <p:blipFill>
          <a:blip r:embed="rId1"/>
          <a:stretch/>
        </p:blipFill>
        <p:spPr>
          <a:xfrm>
            <a:off x="457200" y="2438280"/>
            <a:ext cx="8210520" cy="4137120"/>
          </a:xfrm>
          <a:prstGeom prst="rect">
            <a:avLst/>
          </a:prstGeom>
          <a:ln w="28440">
            <a:solidFill>
              <a:srgbClr val="006666"/>
            </a:solidFill>
            <a:miter/>
          </a:ln>
        </p:spPr>
      </p:pic>
      <p:sp>
        <p:nvSpPr>
          <p:cNvPr id="628" name="Line 9"/>
          <p:cNvSpPr/>
          <p:nvPr/>
        </p:nvSpPr>
        <p:spPr>
          <a:xfrm flipV="1">
            <a:off x="3133800" y="3938400"/>
            <a:ext cx="172800" cy="291960"/>
          </a:xfrm>
          <a:prstGeom prst="line">
            <a:avLst/>
          </a:prstGeom>
          <a:ln w="28440">
            <a:solidFill>
              <a:srgbClr val="00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Line 10"/>
          <p:cNvSpPr/>
          <p:nvPr/>
        </p:nvSpPr>
        <p:spPr>
          <a:xfrm flipV="1">
            <a:off x="5054760" y="3938400"/>
            <a:ext cx="171360" cy="291960"/>
          </a:xfrm>
          <a:prstGeom prst="line">
            <a:avLst/>
          </a:prstGeom>
          <a:ln w="28440">
            <a:solidFill>
              <a:srgbClr val="00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Line 11"/>
          <p:cNvSpPr/>
          <p:nvPr/>
        </p:nvSpPr>
        <p:spPr>
          <a:xfrm flipV="1">
            <a:off x="5054760" y="6072120"/>
            <a:ext cx="171360" cy="292320"/>
          </a:xfrm>
          <a:prstGeom prst="line">
            <a:avLst/>
          </a:prstGeom>
          <a:ln w="28440">
            <a:solidFill>
              <a:srgbClr val="00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Line 12"/>
          <p:cNvSpPr/>
          <p:nvPr/>
        </p:nvSpPr>
        <p:spPr>
          <a:xfrm flipH="1" flipV="1">
            <a:off x="6102360" y="6072120"/>
            <a:ext cx="171360" cy="292320"/>
          </a:xfrm>
          <a:prstGeom prst="line">
            <a:avLst/>
          </a:prstGeom>
          <a:ln w="28440">
            <a:solidFill>
              <a:srgbClr val="00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Line 13"/>
          <p:cNvSpPr/>
          <p:nvPr/>
        </p:nvSpPr>
        <p:spPr>
          <a:xfrm flipH="1" flipV="1">
            <a:off x="6102360" y="3938400"/>
            <a:ext cx="171360" cy="291960"/>
          </a:xfrm>
          <a:prstGeom prst="line">
            <a:avLst/>
          </a:prstGeom>
          <a:ln w="28440">
            <a:solidFill>
              <a:srgbClr val="00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Line 14"/>
          <p:cNvSpPr/>
          <p:nvPr/>
        </p:nvSpPr>
        <p:spPr>
          <a:xfrm flipH="1" flipV="1">
            <a:off x="4241880" y="3938400"/>
            <a:ext cx="171360" cy="291960"/>
          </a:xfrm>
          <a:prstGeom prst="line">
            <a:avLst/>
          </a:prstGeom>
          <a:ln w="28440">
            <a:solidFill>
              <a:srgbClr val="00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Line 15"/>
          <p:cNvSpPr/>
          <p:nvPr/>
        </p:nvSpPr>
        <p:spPr>
          <a:xfrm>
            <a:off x="5054760" y="4603680"/>
            <a:ext cx="171360" cy="292320"/>
          </a:xfrm>
          <a:prstGeom prst="line">
            <a:avLst/>
          </a:prstGeom>
          <a:ln w="28440">
            <a:solidFill>
              <a:srgbClr val="00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Line 16"/>
          <p:cNvSpPr/>
          <p:nvPr/>
        </p:nvSpPr>
        <p:spPr>
          <a:xfrm flipH="1">
            <a:off x="6102360" y="4603680"/>
            <a:ext cx="171360" cy="292320"/>
          </a:xfrm>
          <a:prstGeom prst="line">
            <a:avLst/>
          </a:prstGeom>
          <a:ln w="28440">
            <a:solidFill>
              <a:srgbClr val="00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Line 17"/>
          <p:cNvSpPr/>
          <p:nvPr/>
        </p:nvSpPr>
        <p:spPr>
          <a:xfrm>
            <a:off x="5054760" y="2665440"/>
            <a:ext cx="171360" cy="291960"/>
          </a:xfrm>
          <a:prstGeom prst="line">
            <a:avLst/>
          </a:prstGeom>
          <a:ln w="28440">
            <a:solidFill>
              <a:srgbClr val="00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Line 18"/>
          <p:cNvSpPr/>
          <p:nvPr/>
        </p:nvSpPr>
        <p:spPr>
          <a:xfrm flipH="1">
            <a:off x="6102360" y="2665440"/>
            <a:ext cx="171360" cy="291960"/>
          </a:xfrm>
          <a:prstGeom prst="line">
            <a:avLst/>
          </a:prstGeom>
          <a:ln w="28440">
            <a:solidFill>
              <a:srgbClr val="00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1173240" y="457200"/>
            <a:ext cx="7742160" cy="23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3366"/>
                </a:solidFill>
                <a:latin typeface="Arial"/>
              </a:rPr>
              <a:t>Building</a:t>
            </a: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 Skills &amp; Knowledge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1173240" y="3657240"/>
            <a:ext cx="777240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 dementia &amp; its prog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now how symptoms affect behavi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cribe needs connected to behavi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mize interaction ski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Typical Behaviors with Dementia that Affect a Search &amp; Rescue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1295280" y="1752120"/>
            <a:ext cx="32004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 till ‘stuck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n’t ‘turn around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ing to ‘past places, times, events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nd in creek, drains, briars or brush (63%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ves quiet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 medical problems affect safe mo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story of wandering (72%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48320" y="1752120"/>
            <a:ext cx="403848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oss or leave roadways (67%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nd within a mile of initial location (89%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nd within short distance to the road (50%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ing to a ‘familiar place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ll not leave clues or tra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ll not call out for help (95%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ll not respond to calls (95%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fected by the enviro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Box 4"/>
          <p:cNvSpPr/>
          <p:nvPr/>
        </p:nvSpPr>
        <p:spPr>
          <a:xfrm>
            <a:off x="1447920" y="6248520"/>
            <a:ext cx="3200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apted from </a:t>
            </a:r>
            <a:r>
              <a:rPr b="0" lang="en-US" sz="1400" spc="-1" strike="noStrike" u="sng">
                <a:solidFill>
                  <a:srgbClr val="264c99"/>
                </a:solidFill>
                <a:uFillTx/>
                <a:latin typeface="Arial"/>
                <a:hlinkClick r:id="rId1"/>
              </a:rPr>
              <a:t>www.sar-dbs.co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Understanding Dementia -</a:t>
            </a:r>
            <a:br>
              <a:rPr sz="4400"/>
            </a:b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Brain Failure 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lo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lo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ulse control lo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otional control lo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ircadian rhythm lo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f-care skill lo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Brain atrophy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1172880" y="3809880"/>
            <a:ext cx="743724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brain actually shrin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lls wither then d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ilities are l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Alzheimer’s area of loss are fairly predictab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is the prog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the experience is individual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4" name="Picture 5" descr="brain compare"/>
          <p:cNvPicPr/>
          <p:nvPr/>
        </p:nvPicPr>
        <p:blipFill>
          <a:blip r:embed="rId1"/>
          <a:stretch/>
        </p:blipFill>
        <p:spPr>
          <a:xfrm>
            <a:off x="4648320" y="609480"/>
            <a:ext cx="3809880" cy="2892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Memory Los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495320" y="1981080"/>
            <a:ext cx="4449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mediate re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tention to selected inf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ent ev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rved abilit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ng ago memo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fabulation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motional memo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tor memo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7" name="Picture 5" descr="memory"/>
          <p:cNvPicPr/>
          <p:nvPr/>
        </p:nvPicPr>
        <p:blipFill>
          <a:blip r:embed="rId1"/>
          <a:stretch/>
        </p:blipFill>
        <p:spPr>
          <a:xfrm>
            <a:off x="1382760" y="1523880"/>
            <a:ext cx="308124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Understanding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1218960" y="3428640"/>
            <a:ext cx="746748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’t interpret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’t make sense of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ts off tar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eserved ab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get facial ex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ars tone of vo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get some non-verb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0" name="Picture 4" descr="hearing"/>
          <p:cNvPicPr/>
          <p:nvPr/>
        </p:nvPicPr>
        <p:blipFill>
          <a:blip r:embed="rId1"/>
          <a:stretch/>
        </p:blipFill>
        <p:spPr>
          <a:xfrm>
            <a:off x="5151600" y="762120"/>
            <a:ext cx="3763800" cy="3147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Language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724280" y="1447560"/>
            <a:ext cx="42213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’t find the right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d Sal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gue langu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 phras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nds &amp; vocaliz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’t make needs know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rved abilit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matic spee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wearing/sex words/forbidden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3" name="Picture 5" descr="language1"/>
          <p:cNvPicPr/>
          <p:nvPr/>
        </p:nvPicPr>
        <p:blipFill>
          <a:blip r:embed="rId1"/>
          <a:stretch/>
        </p:blipFill>
        <p:spPr>
          <a:xfrm>
            <a:off x="1371600" y="1523880"/>
            <a:ext cx="3419640" cy="5105520"/>
          </a:xfrm>
          <a:prstGeom prst="rect">
            <a:avLst/>
          </a:prstGeom>
          <a:ln w="0">
            <a:noFill/>
          </a:ln>
        </p:spPr>
      </p:pic>
      <p:sp>
        <p:nvSpPr>
          <p:cNvPr id="654" name="AutoShape 6"/>
          <p:cNvSpPr/>
          <p:nvPr/>
        </p:nvSpPr>
        <p:spPr>
          <a:xfrm>
            <a:off x="3809880" y="5715000"/>
            <a:ext cx="228600" cy="152280"/>
          </a:xfrm>
          <a:prstGeom prst="pie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AutoShape 7"/>
          <p:cNvSpPr/>
          <p:nvPr/>
        </p:nvSpPr>
        <p:spPr>
          <a:xfrm>
            <a:off x="3886200" y="3657600"/>
            <a:ext cx="228600" cy="152280"/>
          </a:xfrm>
          <a:prstGeom prst="pie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Sensory Awarenes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13540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ss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wareness of things behind you and off to the s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ility to accurately identify what’s happen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r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 parts of the body  - lips/tongue/mouth, fingers and palms, soles of feet, genital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ypersensitivity to some sounds, touch, sight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8" name="Picture 5" descr="language1"/>
          <p:cNvPicPr/>
          <p:nvPr/>
        </p:nvPicPr>
        <p:blipFill>
          <a:blip r:embed="rId1"/>
          <a:stretch/>
        </p:blipFill>
        <p:spPr>
          <a:xfrm>
            <a:off x="1700280" y="1981080"/>
            <a:ext cx="2755800" cy="4114800"/>
          </a:xfrm>
          <a:prstGeom prst="rect">
            <a:avLst/>
          </a:prstGeom>
          <a:ln w="0">
            <a:noFill/>
          </a:ln>
        </p:spPr>
      </p:pic>
      <p:sp>
        <p:nvSpPr>
          <p:cNvPr id="659" name="AutoShape 6"/>
          <p:cNvSpPr/>
          <p:nvPr/>
        </p:nvSpPr>
        <p:spPr>
          <a:xfrm>
            <a:off x="2286000" y="2590920"/>
            <a:ext cx="228600" cy="152280"/>
          </a:xfrm>
          <a:prstGeom prst="pie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AutoShape 7"/>
          <p:cNvSpPr/>
          <p:nvPr/>
        </p:nvSpPr>
        <p:spPr>
          <a:xfrm>
            <a:off x="3581280" y="2590920"/>
            <a:ext cx="228600" cy="152280"/>
          </a:xfrm>
          <a:prstGeom prst="pie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AutoShape 8"/>
          <p:cNvSpPr/>
          <p:nvPr/>
        </p:nvSpPr>
        <p:spPr>
          <a:xfrm>
            <a:off x="2743200" y="4419720"/>
            <a:ext cx="228600" cy="152280"/>
          </a:xfrm>
          <a:prstGeom prst="pie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AutoShape 9"/>
          <p:cNvSpPr/>
          <p:nvPr/>
        </p:nvSpPr>
        <p:spPr>
          <a:xfrm>
            <a:off x="3581280" y="4419720"/>
            <a:ext cx="228600" cy="152280"/>
          </a:xfrm>
          <a:prstGeom prst="pie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Impulse &amp; Emotional Control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1172880" y="1981080"/>
            <a:ext cx="4236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comes labile &amp; extre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nk it - say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it - do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e it - use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er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re to be respec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re to be in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ret after 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5" name="Picture 5" descr="impulse"/>
          <p:cNvPicPr/>
          <p:nvPr/>
        </p:nvPicPr>
        <p:blipFill>
          <a:blip r:embed="rId1"/>
          <a:stretch/>
        </p:blipFill>
        <p:spPr>
          <a:xfrm>
            <a:off x="5451480" y="1752480"/>
            <a:ext cx="3390840" cy="487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Self-Care Skills 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tion &amp; termin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ol manip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quenc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rved 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ons and 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doing p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ed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8" name="Picture 4" descr="language1"/>
          <p:cNvPicPr/>
          <p:nvPr/>
        </p:nvPicPr>
        <p:blipFill>
          <a:blip r:embed="rId1"/>
          <a:stretch/>
        </p:blipFill>
        <p:spPr>
          <a:xfrm>
            <a:off x="5562720" y="1371600"/>
            <a:ext cx="3419280" cy="5105520"/>
          </a:xfrm>
          <a:prstGeom prst="rect">
            <a:avLst/>
          </a:prstGeom>
          <a:ln w="0">
            <a:noFill/>
          </a:ln>
        </p:spPr>
      </p:pic>
      <p:sp>
        <p:nvSpPr>
          <p:cNvPr id="669" name="AutoShape 5"/>
          <p:cNvSpPr/>
          <p:nvPr/>
        </p:nvSpPr>
        <p:spPr>
          <a:xfrm>
            <a:off x="6477120" y="2286000"/>
            <a:ext cx="304560" cy="228600"/>
          </a:xfrm>
          <a:prstGeom prst="pie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AutoShape 7"/>
          <p:cNvSpPr/>
          <p:nvPr/>
        </p:nvSpPr>
        <p:spPr>
          <a:xfrm>
            <a:off x="7848720" y="2286000"/>
            <a:ext cx="304560" cy="228600"/>
          </a:xfrm>
          <a:prstGeom prst="pie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AutoShape 8"/>
          <p:cNvSpPr/>
          <p:nvPr/>
        </p:nvSpPr>
        <p:spPr>
          <a:xfrm>
            <a:off x="7010280" y="4495680"/>
            <a:ext cx="304920" cy="228600"/>
          </a:xfrm>
          <a:prstGeom prst="pie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AutoShape 9"/>
          <p:cNvSpPr/>
          <p:nvPr/>
        </p:nvSpPr>
        <p:spPr>
          <a:xfrm>
            <a:off x="7848720" y="4419720"/>
            <a:ext cx="304560" cy="228600"/>
          </a:xfrm>
          <a:prstGeom prst="pie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How do these losses relate </a:t>
            </a:r>
            <a:br>
              <a:rPr sz="4400"/>
            </a:b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to some AT-RISK wandering behaviors?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1172880" y="1904760"/>
            <a:ext cx="38559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oping - escap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llowing c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nting to le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ing somew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loring the environment &amp; ob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shing/opening doors or windo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llowing peo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sistent ‘going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ability to 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 able to do anything e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comf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’t do things on their ow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5135400" y="2057400"/>
            <a:ext cx="38102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st and ‘Looking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’t find pl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oking for famili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vading sp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ic 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llowing interests &amp; hab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awareness of ‘personal space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adow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oking for 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f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isting care – getting m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ght time wakeful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Factors to Assess…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117288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vel of dement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sonal his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lth his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513540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egiver approach &amp;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viro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edule &amp; flow of the 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What is it NOT…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RMAL A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 txBox="1"/>
          <p:nvPr/>
        </p:nvSpPr>
        <p:spPr>
          <a:xfrm>
            <a:off x="456840" y="1904760"/>
            <a:ext cx="404028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ower to thi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ower to 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sitates m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likely to ‘look before you leap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now the person but not the 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use to find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minded of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you, its wors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47960" y="121896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 Normal A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4645080" y="1905120"/>
            <a:ext cx="4194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’t think the s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’t do like bef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’t get star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’t seem to move 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sn’t think it out at 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’t place the per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ds won’t come – even l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fused about past versus n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you it’s DIFFE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1172880" y="456840"/>
            <a:ext cx="7970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For ALL individuals with dementia...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is always the possibility of a FIRST TIME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C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n indication of growing dist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mentia does NOT equal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up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ypically get worse as the day goes on… by late afternoon/early evening… or at night…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’Sun-downing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person is an individual… know them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Progression &amp; Typical AT-RISK Wandering Behaviors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r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y-finding 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to get ‘home’, to ‘work, to ‘familiar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’t remember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e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fo on lo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ware of impair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ts frustrated with limits set by ot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 still drive or Can get independent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or time aware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 for ‘signs’ – not diagnosed  - BEHAVI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s – Aricept, Excelon, Razadyne, Namanda, Haldol, Seraquel, Respirodol, Ativan, Geodon, Abilify, Zyprex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Progression &amp; Typical AT-RISK Wandering Behaviors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dd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es to old situations and activ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s stuck on ‘important things to do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still think and watch caregivers for inattention or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uctuates in ability during 24 h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ke-sleep disturb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ll agree with caregivers – won’t remember it or mean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Progression &amp; Typical AT-RISK Wandering Behaviors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117324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t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llows/shadows caregiv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’t verbally communic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ars ‘chasing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’t communicate needs or w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llows visual cues – doors/cars/windo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self-prot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sn’t turn a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sening mobility ski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day-night or seasonal aware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’t meet own needs (food/drink/c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/>
          </p:nvPr>
        </p:nvSpPr>
        <p:spPr>
          <a:xfrm>
            <a:off x="685800" y="259056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eks authority figures for hel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llows simple directional sign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llows prompted schedu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llows familiar routes to get arou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ooks for places, people, activities that are desired BUT gets lost easi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comes easily frustrated when things don’t go well or others won’t ‘behave right’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ll look and sound ‘normal’ most of the ti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 type="title"/>
          </p:nvPr>
        </p:nvSpPr>
        <p:spPr>
          <a:xfrm>
            <a:off x="685800" y="609480"/>
            <a:ext cx="815328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What Can &amp; Does the </a:t>
            </a:r>
            <a:br>
              <a:rPr sz="3900"/>
            </a:b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Diamond - Earliest </a:t>
            </a:r>
            <a:br>
              <a:rPr sz="3900"/>
            </a:b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erson Do?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What Can &amp; Does the </a:t>
            </a:r>
            <a:br>
              <a:rPr sz="3900"/>
            </a:b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merald – </a:t>
            </a:r>
            <a:r>
              <a:rPr b="0" lang="en-US" sz="3900" spc="-1" strike="noStrike">
                <a:solidFill>
                  <a:srgbClr val="330066"/>
                </a:solidFill>
                <a:latin typeface="Arial"/>
              </a:rPr>
              <a:t>Early/Moderate</a:t>
            </a:r>
            <a:br>
              <a:rPr sz="3900"/>
            </a:b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erson Do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536560"/>
            <a:ext cx="8229600" cy="359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sks questions over and ove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Picks up on visual information more than verbal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lopes - Goes back to old work &amp; home habits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lopes – To get away from current rules/situatio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Has some problems with hygiene, personal care, care of others or pets, can’t be alon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Becomes upset if unable to figure out what should or needs to be don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609120" y="533160"/>
            <a:ext cx="8001000" cy="1904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What Can &amp; Does the </a:t>
            </a:r>
            <a:br>
              <a:rPr sz="3900"/>
            </a:b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Amber – </a:t>
            </a:r>
            <a:r>
              <a:rPr b="0" i="1" lang="en-US" sz="3900" spc="-1" strike="noStrike">
                <a:solidFill>
                  <a:srgbClr val="330066"/>
                </a:solidFill>
                <a:latin typeface="Arial"/>
              </a:rPr>
              <a:t>Moderate-Severe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 </a:t>
            </a:r>
            <a:br>
              <a:rPr sz="3900"/>
            </a:b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erson Do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304920" y="2743200"/>
            <a:ext cx="81532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Needs step-by-step guidance &amp; help for car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llows demonstrations and hand-under-hand guidance after a few repetitions, uses utensils (not always well)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Likes to handle, manipulate, touch, gather, place thing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Will not respect others’ space or belongings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Goes to places or activities that are interesting visually, tactilely, auditorily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Leaves places or activities that are TOO busy or crowded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84872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What Can &amp; Does the </a:t>
            </a:r>
            <a:br>
              <a:rPr sz="3900"/>
            </a:b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Ruby - </a:t>
            </a:r>
            <a:r>
              <a:rPr b="0" i="1" lang="en-US" sz="3900" spc="-1" strike="noStrike">
                <a:solidFill>
                  <a:srgbClr val="330066"/>
                </a:solidFill>
                <a:latin typeface="Arial"/>
              </a:rPr>
              <a:t>Severe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 </a:t>
            </a:r>
            <a:br>
              <a:rPr sz="3900"/>
            </a:b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erson Do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304920" y="2742840"/>
            <a:ext cx="853416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Walks/wheels around a majority of the time when awak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May carry objects or rub/clap/pat with hand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ends toward movement unless ‘asleep’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Uses hands poorly, not spontaneously, inconsistently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llows gross demonstration &amp; big gestures for action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Limited awareness of others - may invade personal spa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Gets stuck in ‘tight’ places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Leaves during ‘unpleasant’ experien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84872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What Can &amp; Does the </a:t>
            </a:r>
            <a:br>
              <a:rPr sz="3900"/>
            </a:b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earl – </a:t>
            </a:r>
            <a:r>
              <a:rPr b="0" i="1" lang="en-US" sz="3900" spc="-1" strike="noStrike">
                <a:solidFill>
                  <a:srgbClr val="330066"/>
                </a:solidFill>
                <a:latin typeface="Arial"/>
              </a:rPr>
              <a:t>Very Severe</a:t>
            </a:r>
            <a:br>
              <a:rPr sz="3900"/>
            </a:b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erson Do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s bed or chair bound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Has more time asleep or unawar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Has many ‘primitive’ reflexes present -Startles easily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May cry out or mumble ‘constantly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ncreases vocalizations with distres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Difficult to calm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Knows familiar from unfamilia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ouch and voice make a difference in behavior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Knowing the Person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stor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lues and belief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bits and rout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sonality and stress behavi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 &amp; family his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isure and spiritual his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t buttons &amp; comfo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What Could It Be?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other medical cond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dication side-eff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aring loss or vision lo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ute illnes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re but unrecognized p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hing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Health &amp; Illnes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bility probl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i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nsory probl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ntal health issu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diagnoses of importan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Approach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a consistent positive physical appro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roach within visual 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roach slow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fer your hand &amp; make eye cont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 the person by nam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 to the side to communic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pect personal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it for a respo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Communication - interaction… 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unicate with aware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ok, listen, think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 your n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 an empathetic observational stat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look busy...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looks like you are tired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ounds like you are upset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it for a 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Giving information</a:t>
            </a: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ep it short and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’s lunch time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t’s go this way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’s your sock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familiar words and phr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gestures and props to hel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Encourage Engagement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117288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k a person to 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k a person to help y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 simple positive directions - 1 step at a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513540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props or ob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s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monst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u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r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ir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Environmental Factors &amp; Change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3200040" y="1981080"/>
            <a:ext cx="57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gramm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Environmental Aid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miliar – 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Where am I?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iendly – 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s this an OK place to be?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–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“What happens here?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giving (safe) –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What about mistak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Environmental Aid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sible &amp; invi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m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tched to 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tched to intere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1173240" y="457200"/>
            <a:ext cx="77421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Daily Routines &amp; </a:t>
            </a:r>
            <a:br>
              <a:rPr sz="4400"/>
            </a:b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Client-Centered Programming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1173240" y="289548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ld habits and rout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tterns during the 24 h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time to rest, work, play…sociali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r needs… my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To Intervene…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6583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will you start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idea 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R edu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R skill buil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ility edu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ility edu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ty/Family aware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Ten Early Warning Sign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0" y="1447920"/>
            <a:ext cx="44956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 loss for recent or new information – repeats self frequen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y doing familiar, but difficult tasks – managing money, medications, driv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lems with word finding, mis-naming, or mis-understand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tting confused about time or place  - getting lost while driving, missing several appoint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 txBox="1"/>
          <p:nvPr/>
        </p:nvSpPr>
        <p:spPr>
          <a:xfrm>
            <a:off x="4648320" y="1447560"/>
            <a:ext cx="449568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sening judgment – not thinking thing through like bef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y problem solving or reaso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splacing things – putting them in ‘odd places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ges in mood or behavi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ges in typical pers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ss of initiation – withdraws form normal patterns of activities and inter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Then…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serve &amp; document the wandering behavior thoroughly (especially new admits!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patt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does it happ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does it happ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o is inv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said, done, attemp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makes it better… wor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Is the person at RISK </a:t>
            </a:r>
            <a:br>
              <a:rPr sz="4000"/>
            </a:b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as a critical wanderer???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NO - leave it al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YES - its time to problem sol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ll the team toge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t on the thinking ca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Explore all of the following -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vel of dement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sonal background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alth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egiver approach &amp; assis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vironmental 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bits, schedules &amp; time of 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Re-look at the problematic </a:t>
            </a:r>
            <a:br>
              <a:rPr sz="4400"/>
            </a:b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wandering behavior…</a:t>
            </a: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oes the person ne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meaning of the behavio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you understand the wandering bett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Make a PLAN!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 will do wha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will it be don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will it wor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environmental change is need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props are needed - where will they b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Implement the plan!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ep track of prog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cument what is happe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e among the team me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think - if it isn’t working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EBRATE - if it i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117324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1173240" y="12949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zheimer’s Associations </a:t>
            </a:r>
            <a:r>
              <a:rPr b="0" lang="en-US" sz="2800" spc="-1" strike="noStrike" u="sng">
                <a:solidFill>
                  <a:srgbClr val="264c99"/>
                </a:solidFill>
                <a:uFillTx/>
                <a:latin typeface="Arial"/>
                <a:hlinkClick r:id="rId1"/>
              </a:rPr>
              <a:t>www.alz.or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264c99"/>
                </a:solidFill>
                <a:uFillTx/>
                <a:latin typeface="Arial"/>
                <a:hlinkClick r:id="rId2"/>
              </a:rPr>
              <a:t>www.dbs-sar.co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search inf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ject Lifesav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877-580-LIFE (543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264c99"/>
                </a:solidFill>
                <a:uFillTx/>
                <a:latin typeface="Arial"/>
                <a:hlinkClick r:id="rId3"/>
              </a:rPr>
              <a:t>http://www.projectlifesaver.org/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264c99"/>
                </a:solidFill>
                <a:uFillTx/>
                <a:latin typeface="Arial"/>
                <a:hlinkClick r:id="rId4"/>
              </a:rPr>
              <a:t>www.ssww.co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en-US" sz="2400" spc="-1" strike="noStrike" u="sng">
                <a:solidFill>
                  <a:srgbClr val="264c99"/>
                </a:solidFill>
                <a:uFillTx/>
                <a:latin typeface="Arial"/>
                <a:hlinkClick r:id="rId5"/>
              </a:rPr>
              <a:t>www.nasco.co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activiti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264c99"/>
                </a:solidFill>
                <a:uFillTx/>
                <a:latin typeface="Arial"/>
                <a:hlinkClick r:id="rId6"/>
              </a:rPr>
              <a:t>www.alzstore.co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devices &amp; activiti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oncern About the Lost Elder: Dementia &amp; Wandering Behavio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Nina Silverstein et 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he Lost Alzheimer’s &amp; Related Disorders Subject New Research and Perspective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R J Koest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Four Cases…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One – Anita - Diamo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Two – Frank - Emera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Three – Mary - A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Four – Glenn - Ru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Four Cases…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One – Anita - Diamo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Two – Frank - Emera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Three – Mary - A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Four – Glenn - Ru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Drugs that can affect cognition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6" name=""/>
          <p:cNvSpPr txBox="1"/>
          <p:nvPr/>
        </p:nvSpPr>
        <p:spPr>
          <a:xfrm>
            <a:off x="685440" y="1523880"/>
            <a:ext cx="42973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ti-arrhythmic ag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tibio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tihistamines - decongest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icyclic antidepress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ti-hypertens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ti-cholinergic ag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ti-convuls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ti-eme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4571640" y="1523520"/>
            <a:ext cx="38098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stamine receptor block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munosuppressant ag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scle relax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rcotic analge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dative hypno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ti-Parkinsonian ag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Box 6"/>
          <p:cNvSpPr/>
          <p:nvPr/>
        </p:nvSpPr>
        <p:spPr>
          <a:xfrm>
            <a:off x="533520" y="5867280"/>
            <a:ext cx="8076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Washington Manual Geriatrics Subspecialty Consults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edited by Kyle C. Moylan (pg 15) – published by Lippencott, Wilkins &amp; Williams , 200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8T09:52:30Z</dcterms:created>
  <dc:creator>Dick M. Snow</dc:creator>
  <dc:description/>
  <dc:language>en-US</dc:language>
  <cp:lastModifiedBy>Teepa Snow</cp:lastModifiedBy>
  <dcterms:modified xsi:type="dcterms:W3CDTF">2009-09-22T12:20:23Z</dcterms:modified>
  <cp:revision>54</cp:revision>
  <dc:subject/>
  <dc:title>Interventions to Manage Wandering</dc:title>
</cp:coreProperties>
</file>