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26.gif" ContentType="image/gif"/>
  <Override PartName="/ppt/media/image4.png" ContentType="image/png"/>
  <Override PartName="/ppt/media/image3.png" ContentType="image/png"/>
  <Override PartName="/ppt/media/image2.png" ContentType="image/png"/>
  <Override PartName="/ppt/media/image10.png" ContentType="image/png"/>
  <Override PartName="/ppt/media/image5.png" ContentType="image/png"/>
  <Override PartName="/ppt/media/image25.wmf" ContentType="image/x-wmf"/>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3"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F3D3-D83A-4643-89EC-E4A395E73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B57E-3116-4D32-B78A-928462CDB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AE6C-5799-437A-9C1F-052F5B5EC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73B9-8573-48C0-9DC7-71A85DEB1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B460-6A64-4F41-ABF3-B94E7ECC1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6964-B819-4AA3-83AE-25C2DF9DB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4A18-34D0-47F8-865D-8773241C7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508D-E9D1-4A9F-88DF-F19F9ABFA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17DD-1757-416E-BC38-07AE3D95F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6304-A69A-463A-94C6-04F306434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77FB-0FF6-45C8-A3A2-86ADD9896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FEE9-6056-400E-9B4D-69C5E3749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442D-9241-4EB9-9000-08B8BC182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AFD7-9EE7-401D-8406-7253EFB67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6791-68D1-4C6B-AEC0-F95C12341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32DE-3A4F-4A1B-A834-E1B3BC42B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3441-8EC3-4CF6-8B29-27C336523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BFA5-51F2-42C2-84E5-D89C63632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6D4E-F97E-46C3-A1B1-AC2F51760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C438-B41D-4319-BB54-68569EE55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4F36-EEF2-4A2A-B874-8BDE3F994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9DB2-BA5E-4F06-BBBA-F9A460093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D0D9-CA9F-46E1-A46C-9E5A946CB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75F4-2E84-4418-ADF7-47A8400DB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4F5B-1CEE-41E7-AA09-8FD22D7F2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AC9A-D0C5-4312-85E7-E175FDE53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960C-FB32-4519-9333-D04F97215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B86D-A2A6-4664-AC10-7FF45B206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04B8-6FFA-4650-AE21-7C624BA70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DA72-FC5A-4A4A-AB1F-DFFA7BBB2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4E03-CE09-42D1-A5FA-0EFE44071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7F2A-BCC2-46BB-B19A-7990D768B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6DF6-AD1F-4D7B-91D7-0216636B2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49F7-3117-4F91-92F0-5510F2DEB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A8D3-C6D3-4EFD-9061-2FC10BB9B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DD7B-BC39-4E4F-9025-E52329867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15FE-C746-4D8F-B6E8-E10666D99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F583-4067-40FF-8327-3FC5D2F30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DF97-7BB6-42CE-BC48-605566B41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8A6B-647C-45E8-A8D1-F6293BFED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991E-33A5-4A04-90DE-A6E1CC589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B240-2652-4D40-B480-2808B345D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738A-305E-46CA-90BB-FD88FDC26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A12D-F9F8-422A-9177-877FE967E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7A8C-A7DA-4F48-8E10-1D76C238B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34B3-0A04-4F12-ADC1-D6C49233E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EC1D-7A9F-497D-9947-8E0FE5F7C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B5453-9286-45AF-921D-BAFDF459E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12F5D-BC8C-456A-9182-EDCA341F2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7F69D1-F31C-49A5-97AF-D2085814C8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A91CC-3B54-4216-8CBC-054A7569B4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068CC0-0609-482A-B8F4-A42004D157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45FF18-1239-4E9B-9F10-577A662886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F3F75-0432-4DB9-B513-D2A20D161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0CA8F8-C2B0-434D-92F5-388DB2CB23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542BB5-6AA5-4190-937A-DCE8ED08CD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5B21D4-4DDC-4B37-91E7-2C79245372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0F97A7-1B69-437E-A746-A9A46AD23C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732FBE-7556-4AB9-AE9E-ECD7EDD1F3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4FC92-1598-4664-93EB-9D20CDB05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50DAFB-EDF3-4F0A-9E84-C6EF9ED26A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8C0B2F-8806-4A2D-9ED3-379CBA99D5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83776E-3B3A-470C-BF2D-F610F9826C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BDED23-EDCD-459B-93AB-267C067511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409811-188E-4625-978E-CC16B78459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5EF0D7-FDE9-4208-A8C6-6EDFCF3232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22A0C7-C710-4AAF-AB26-65A0EC83A4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E380E5-8E6B-40DA-9149-33AB0B164D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D20B97-0F3A-450A-8951-6EDD0F501F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FF39D2-EDFD-4CB9-A895-20C7A0A93F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45402-B1C1-478B-8495-80AF1920C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BBD897-D954-400F-8CA8-0D34FAA910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7840DF-2378-48AF-B3AE-B015ADC91B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C7C6E7-EB22-4DC5-9F04-6A217F590C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852B42-6D45-4074-8D28-B6682E7995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BDE0DA-A58B-46C5-9240-B20B33650B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50FB5D-3917-40BC-B5CA-57107B7EF2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34A10C-38FE-4945-A284-A0867C5996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0B4E9A-8327-4D7F-8C25-4AF7CD07C8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FD189B-A887-4BCD-8EA1-82B67AE0EC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A9A963-9883-4519-8BA5-8F68608E28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1A063-ADD0-440E-8BEE-38B4A27BA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6FEBED-BA84-4706-8986-793768ACCE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29F921-4650-4335-B52D-2B2CC8D1B2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62DF958-2973-4AC6-9D08-32BD7BF13C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91A430-D894-47EA-964A-160FDEA97E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540278-20A1-4799-9FE1-73FDF02046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33CA9D-43F8-4EB7-A094-935F84F46E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C2609A-F31B-4238-9FFF-69D85E9911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C948D8-FCFD-4EC2-AC9F-6978E864F4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28DC29-DD96-4896-BEA1-BFD124A44E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80E117-DD1F-48AF-84E8-00CC30BE1D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341BB-00D1-4FC9-A2C6-E2CF3D42D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5BA246-5D7F-4209-985E-552137CF58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C3FBD4-7ED7-45C8-A7C6-381787BFA7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83251C-43BE-4EF7-92C0-0BD11DA0BD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704217-15CF-434E-A28F-CDB8A74B20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F7ECA5-6D1D-456E-93F7-1977D8F8B8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068D7-2D1B-4D60-85EC-D0A259F67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9F8B3-7D45-4378-8290-DDDAF05F9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AD5B9-2950-468F-9076-D87FF427B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2E87C-FF14-4863-A9AD-BB5AF1A03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6A197-767C-4760-9E34-2B98C9218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C028E-C42B-4159-A75F-D51461A60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0F2D4-8FE3-4D5E-8545-E9272BE50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35C57-D545-4869-AC41-03441648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13220-0BDA-4535-B4E3-32E6FA7EE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48709-9BCE-4EF4-B5A5-535E9E94A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F2FC5-5F44-444E-B6B8-FE767D3AF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28B05C-E1BE-4426-AABC-6A69A90009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BA744-3FB0-42AC-9765-3DDFFDCD3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EB11A-2B76-4366-9F74-DBE9E7401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450855-AE46-4240-A0CB-FC9D928034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FC8D87-B0B7-49FD-B39D-C934B8E78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6303C-4A75-4D4C-929C-67DE18527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2E192-06E6-46E4-9FCA-0537B98520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FDC8C-0FA9-4423-9192-F824E0189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0F3CB-D558-4F4B-907A-B87876DC3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7EA85-C9E7-47F3-9419-765EF9A9B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B6329-8392-43B2-997B-D26A8E11D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37205-C5AB-406F-B5D1-D772D4219F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03CC67-F676-44F2-BB7E-95E5E6E99C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18A818-DEF1-4EC4-8440-899E71EC1B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24054-A479-477E-892C-D4EB64FDB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CCAE4-2739-4E14-96B2-0F754628B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21B7F-86CA-4183-82CE-C5E03F872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4FC671-6B9E-41C7-A490-E79B1D0FB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5B09C4-6D4E-4DF3-8381-14E37C7CD8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6EA62-4066-4A4F-A578-2E22AD876D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D2FE9-EB8E-4981-9E70-71E3CCC640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29D79-42BE-4F0A-A1ED-FA347D708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6A105-0836-4FC5-BB0F-B2141F69E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91638-045C-4480-81D0-07A41BF090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EA025A-E554-4B07-A759-36CE39F5EB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748CAE-34A7-439F-8208-390662FCC2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1FAC6A-041C-433B-AB77-2C1F688444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1291F-1176-4053-9213-4709309C6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65049-7D07-4AD4-9607-FB88D20216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8FD150-00EC-40E1-A366-6A0A37953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B925F-2C3D-490F-8078-1FB123B45B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13454-D9B1-4638-B4A1-5302000186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585F99-DE71-4ADB-951B-21BB09433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F6109-DE6E-41F8-98A5-864139E11C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FD528C-D625-427F-B51E-E2A8A416A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B1141-0BA3-49E1-9AAF-6EF33CC11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A2F3B5-9914-45AD-A44E-364BD11E5A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9F4531-CB8F-4868-8056-939432C0B3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8BE3F-3B1E-4FC4-945E-5AE1E357C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D84F66-9871-4BC8-85D8-3DC1623A6C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91C29F-8251-4C39-9872-0C0565B31F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D92F3B-D993-43D2-A11D-43AF1324ED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22BCF6-A8FA-41D8-9ED1-CF572C5F68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0AC6EB-7340-47FC-A3F7-8F4553E13A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B76920-9150-48A7-8B45-F5F498861C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EAACB-6F51-4B6F-845A-849C0AC47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A474B-94E4-4517-BC6C-62C6BF760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F416D-78A6-4AF4-B8A4-FB14B006D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BE534-3C09-4788-8CCD-91FEE64EE4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34365-B07F-439C-B44C-3A110CF5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8C723B-E899-4398-857A-4A9A9980A7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B192D5-41FC-4FDE-8C0E-3AE025CB5B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DCC8C2-8BCC-49E3-B691-2AD3B9E2DF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7EFAB2-A5B8-465E-9C0E-8CDCEC4970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543AB6-FB97-497A-9E9D-F9284A2DE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F5A586-1FA7-4E42-95BB-6380D7FDE5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19014-171C-47C6-8E46-87CD2564FF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264A16-A0BB-4ADE-A394-E970C4A62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1338F5-8819-4469-9154-51307C0AA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B75CA-05AC-477D-B7D2-0F64DBB00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38628-4549-4593-BD9C-24D591D2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3C04A-9A7F-47BC-B26C-0007F3AF88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2FD0E-7DFC-4D1F-9F0C-57E728E22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88938-0ED0-4B36-B78E-B0B6529CA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BD959F-B5C6-4F7C-80CD-59D12D78AD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EC2C83-8348-4B17-A1BE-62B33E6FD1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88C33C-4D85-4C92-9C7B-216109A0D3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065682-EE51-4792-9FFA-11188E911B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A576B1-12CA-44BF-85FF-C16BE0754A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FFB75C-F7E4-4C8B-937B-42220224AB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271087-6EA0-4B86-9ACD-8D0E1315D0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58688-93D4-40F1-A600-1F9436888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EB8EF-8484-420A-BE72-6D14EA1B3B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E2B7CF-8FBC-408B-BBE2-09908A922D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DE84C7-FC06-49F3-9576-1C0CD7172D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9A012-DB33-42A4-B4A4-1CDEB197A0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89827-FF4D-4F69-9086-A9EC409B3C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0DE0B9-56A1-4C50-9343-A309719BC1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672B5B-8BFF-428F-A31C-7C5498D02F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F7046A-7730-45BA-941F-6060326F8B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CB05FD-ACDD-4303-AF0D-3D54E5A78E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B7DE91-B861-4D68-B314-FFF333C808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391B-C799-4CE1-B72D-FAFC7F756A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396" name="Group 2050"/>
          <p:cNvGrpSpPr/>
          <p:nvPr/>
        </p:nvGrpSpPr>
        <p:grpSpPr>
          <a:xfrm>
            <a:off x="-8405640" y="4680"/>
            <a:ext cx="17538480" cy="13690800"/>
            <a:chOff x="-8405640" y="4680"/>
            <a:chExt cx="17538480" cy="13690800"/>
          </a:xfrm>
        </p:grpSpPr>
        <p:sp>
          <p:nvSpPr>
            <p:cNvPr id="397"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98"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DE39-D511-4787-BFBB-20B635DDE4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440" name="Group 2050"/>
          <p:cNvGrpSpPr/>
          <p:nvPr/>
        </p:nvGrpSpPr>
        <p:grpSpPr>
          <a:xfrm>
            <a:off x="-8405640" y="4680"/>
            <a:ext cx="17538480" cy="13690800"/>
            <a:chOff x="-8405640" y="4680"/>
            <a:chExt cx="17538480" cy="13690800"/>
          </a:xfrm>
        </p:grpSpPr>
        <p:sp>
          <p:nvSpPr>
            <p:cNvPr id="441"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42"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7ED6-231C-462D-8609-24E936C647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484" name="Group 2050"/>
          <p:cNvGrpSpPr/>
          <p:nvPr/>
        </p:nvGrpSpPr>
        <p:grpSpPr>
          <a:xfrm>
            <a:off x="-8405640" y="4680"/>
            <a:ext cx="17538480" cy="13690800"/>
            <a:chOff x="-8405640" y="4680"/>
            <a:chExt cx="17538480" cy="13690800"/>
          </a:xfrm>
        </p:grpSpPr>
        <p:sp>
          <p:nvSpPr>
            <p:cNvPr id="485"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6"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8A26-8B19-49BD-BBF9-28DB120772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6" name="Arc 1028"/>
            <p:cNvSpPr/>
            <p:nvPr/>
          </p:nvSpPr>
          <p:spPr>
            <a:xfrm>
              <a:off x="-7758000" y="1463760"/>
              <a:ext cx="13452480" cy="10794960"/>
            </a:xfrm>
            <a:custGeom>
              <a:avLst/>
              <a:gdLst>
                <a:gd name="textAreaLeft" fmla="*/ 0 w 13452480"/>
                <a:gd name="textAreaRight" fmla="*/ 13452840 w 13452480"/>
                <a:gd name="textAreaTop" fmla="*/ 0 h 10794960"/>
                <a:gd name="textAreaBottom" fmla="*/ 10795320 h 1079496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C4BB-C7FA-4F62-9623-4CDB2BAF2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88" name="Group 2050"/>
          <p:cNvGrpSpPr/>
          <p:nvPr/>
        </p:nvGrpSpPr>
        <p:grpSpPr>
          <a:xfrm>
            <a:off x="-8405640" y="4680"/>
            <a:ext cx="17538480" cy="13690800"/>
            <a:chOff x="-8405640" y="4680"/>
            <a:chExt cx="17538480" cy="13690800"/>
          </a:xfrm>
        </p:grpSpPr>
        <p:sp>
          <p:nvSpPr>
            <p:cNvPr id="89"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0"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39D4-0E66-4D18-9495-EB6278B6DD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132" name="Group 2050"/>
          <p:cNvGrpSpPr/>
          <p:nvPr/>
        </p:nvGrpSpPr>
        <p:grpSpPr>
          <a:xfrm>
            <a:off x="-8405640" y="4680"/>
            <a:ext cx="17538480" cy="13690800"/>
            <a:chOff x="-8405640" y="4680"/>
            <a:chExt cx="17538480" cy="13690800"/>
          </a:xfrm>
        </p:grpSpPr>
        <p:sp>
          <p:nvSpPr>
            <p:cNvPr id="133"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4"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5C9D-7C8F-45E7-8626-9697208D4A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176" name="Group 2050"/>
          <p:cNvGrpSpPr/>
          <p:nvPr/>
        </p:nvGrpSpPr>
        <p:grpSpPr>
          <a:xfrm>
            <a:off x="-8405640" y="4680"/>
            <a:ext cx="17538480" cy="13690800"/>
            <a:chOff x="-8405640" y="4680"/>
            <a:chExt cx="17538480" cy="13690800"/>
          </a:xfrm>
        </p:grpSpPr>
        <p:sp>
          <p:nvSpPr>
            <p:cNvPr id="177"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B5B4-F68B-422A-AE87-CA249685A3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220" name="Group 2050"/>
          <p:cNvGrpSpPr/>
          <p:nvPr/>
        </p:nvGrpSpPr>
        <p:grpSpPr>
          <a:xfrm>
            <a:off x="-8405640" y="4680"/>
            <a:ext cx="17538480" cy="13690800"/>
            <a:chOff x="-8405640" y="4680"/>
            <a:chExt cx="17538480" cy="13690800"/>
          </a:xfrm>
        </p:grpSpPr>
        <p:sp>
          <p:nvSpPr>
            <p:cNvPr id="221"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2"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F95E-7249-4979-9446-0DF60EA077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264" name="Group 2050"/>
          <p:cNvGrpSpPr/>
          <p:nvPr/>
        </p:nvGrpSpPr>
        <p:grpSpPr>
          <a:xfrm>
            <a:off x="-8405640" y="4680"/>
            <a:ext cx="17538480" cy="13690800"/>
            <a:chOff x="-8405640" y="4680"/>
            <a:chExt cx="17538480" cy="13690800"/>
          </a:xfrm>
        </p:grpSpPr>
        <p:sp>
          <p:nvSpPr>
            <p:cNvPr id="265"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66"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95A5-4482-486C-911B-2F22F1FDD3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308" name="Group 2050"/>
          <p:cNvGrpSpPr/>
          <p:nvPr/>
        </p:nvGrpSpPr>
        <p:grpSpPr>
          <a:xfrm>
            <a:off x="-8405640" y="4680"/>
            <a:ext cx="17538480" cy="13690800"/>
            <a:chOff x="-8405640" y="4680"/>
            <a:chExt cx="17538480" cy="13690800"/>
          </a:xfrm>
        </p:grpSpPr>
        <p:sp>
          <p:nvSpPr>
            <p:cNvPr id="309"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0"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9C1B-482A-4FC3-BE16-30E2DC6D34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352" name="Group 2050"/>
          <p:cNvGrpSpPr/>
          <p:nvPr/>
        </p:nvGrpSpPr>
        <p:grpSpPr>
          <a:xfrm>
            <a:off x="-8405640" y="4680"/>
            <a:ext cx="17538480" cy="13690800"/>
            <a:chOff x="-8405640" y="4680"/>
            <a:chExt cx="17538480" cy="13690800"/>
          </a:xfrm>
        </p:grpSpPr>
        <p:sp>
          <p:nvSpPr>
            <p:cNvPr id="353"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54"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4498-3B1E-4A96-9353-23DADA0CC7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gif"/><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0" y="761760"/>
            <a:ext cx="90662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 CASIE III</a:t>
            </a:r>
            <a:endParaRPr b="0" lang="en-US" sz="4400" spc="-1" strike="noStrike">
              <a:solidFill>
                <a:srgbClr val="000000"/>
              </a:solidFill>
              <a:latin typeface="Arial"/>
            </a:endParaRPr>
          </a:p>
        </p:txBody>
      </p:sp>
      <p:pic>
        <p:nvPicPr>
          <p:cNvPr id="536" name="Picture 7" descr="EFPD_SAR_Logo_TransBG.jpg"/>
          <p:cNvPicPr/>
          <p:nvPr/>
        </p:nvPicPr>
        <p:blipFill>
          <a:blip r:embed="rId1"/>
          <a:stretch/>
        </p:blipFill>
        <p:spPr>
          <a:xfrm>
            <a:off x="152280" y="152280"/>
            <a:ext cx="1524240" cy="1521000"/>
          </a:xfrm>
          <a:prstGeom prst="rect">
            <a:avLst/>
          </a:prstGeom>
          <a:ln w="0">
            <a:noFill/>
          </a:ln>
        </p:spPr>
      </p:pic>
      <p:sp>
        <p:nvSpPr>
          <p:cNvPr id="537" name="Rectangle 3"/>
          <p:cNvSpPr/>
          <p:nvPr/>
        </p:nvSpPr>
        <p:spPr>
          <a:xfrm>
            <a:off x="682560" y="198108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Aided Search Information Exchange</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Using Win CASIE III During a Full-Scale Search</a:t>
            </a:r>
            <a:endParaRPr b="0" lang="en-US" sz="6000" spc="-1" strike="noStrike">
              <a:solidFill>
                <a:srgbClr val="000000"/>
              </a:solidFill>
              <a:latin typeface="Times New Roman"/>
            </a:endParaRPr>
          </a:p>
          <a:p>
            <a:pPr lvl="1" marL="743040" indent="-285840" algn="ct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535"/>
                                        </p:tgtEl>
                                        <p:attrNameLst>
                                          <p:attrName>style.visibility</p:attrName>
                                        </p:attrNameLst>
                                      </p:cBhvr>
                                      <p:to>
                                        <p:strVal val="visible"/>
                                      </p:to>
                                    </p:set>
                                    <p:anim calcmode="lin" valueType="num">
                                      <p:cBhvr additive="repl">
                                        <p:cTn id="7" dur="500" fill="hold"/>
                                        <p:tgtEl>
                                          <p:spTgt spid="5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5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5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9">
                                  <p:stCondLst>
                                    <p:cond delay="0"/>
                                  </p:stCondLst>
                                  <p:childTnLst>
                                    <p:anim calcmode="lin" valueType="num">
                                      <p:cBhvr additive="repl">
                                        <p:cTn id="14" dur="500" fill="hold"/>
                                        <p:tgtEl>
                                          <p:spTgt spid="535"/>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 dur="500" fill="hold"/>
                                        <p:tgtEl>
                                          <p:spTgt spid="535"/>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 dur="500" fill="hold"/>
                                        <p:tgtEl>
                                          <p:spTgt spid="535"/>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 dur="500" fill="hold"/>
                                        <p:tgtEl>
                                          <p:spTgt spid="535"/>
                                        </p:tgtEl>
                                        <p:attrNameLst>
                                          <p:attrName>ppt_y</p:attrName>
                                        </p:attrNameLst>
                                      </p:cBhvr>
                                      <p:tavLst>
                                        <p:tav tm="0">
                                          <p:val>
                                            <p:strVal val="#ppt_y"/>
                                          </p:val>
                                        </p:tav>
                                        <p:tav tm="100000">
                                          <p:val>
                                            <p:strVal val="#ppt_y"/>
                                          </p:val>
                                        </p:tav>
                                      </p:tavLst>
                                    </p:anim>
                                    <p:set>
                                      <p:cBhvr>
                                        <p:cTn id="18" dur="1" fill="hold">
                                          <p:stCondLst>
                                            <p:cond delay="499"/>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a:t>
            </a:r>
            <a:endParaRPr b="0" lang="en-US" sz="4400" spc="-1" strike="noStrike">
              <a:solidFill>
                <a:srgbClr val="000000"/>
              </a:solidFill>
              <a:latin typeface="Arial"/>
            </a:endParaRPr>
          </a:p>
        </p:txBody>
      </p:sp>
      <p:sp>
        <p:nvSpPr>
          <p:cNvPr id="55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are returned to you and they contain the following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copter searched Segments 1 and 2 with a POD of 4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sse searched Segment 1 with a POD of 5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round team searched Segment 2 with a Coverage of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V searched Segment 3 with a POD of 2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dney Cruise was not found.</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d the updated POAs and the CPODs.</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a:t>
            </a:r>
            <a:endParaRPr b="0" lang="en-US" sz="4400" spc="-1" strike="noStrike">
              <a:solidFill>
                <a:srgbClr val="000000"/>
              </a:solidFill>
              <a:latin typeface="Arial"/>
            </a:endParaRPr>
          </a:p>
        </p:txBody>
      </p:sp>
      <p:pic>
        <p:nvPicPr>
          <p:cNvPr id="560" name="Picture 2" descr=""/>
          <p:cNvPicPr/>
          <p:nvPr/>
        </p:nvPicPr>
        <p:blipFill>
          <a:blip r:embed="rId1"/>
          <a:stretch/>
        </p:blipFill>
        <p:spPr>
          <a:xfrm>
            <a:off x="1295280" y="1676520"/>
            <a:ext cx="5748480" cy="4297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a:t>
            </a:r>
            <a:endParaRPr b="0" lang="en-US" sz="4400" spc="-1" strike="noStrike">
              <a:solidFill>
                <a:srgbClr val="000000"/>
              </a:solidFill>
              <a:latin typeface="Arial"/>
            </a:endParaRPr>
          </a:p>
        </p:txBody>
      </p:sp>
      <p:sp>
        <p:nvSpPr>
          <p:cNvPr id="5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the end of Operational Period 2 you are given the following information:</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copter searched Segment 3 and half of Segment 2 with a POD of 45%.</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sse searched Segment 2 with a POD of 50%.</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round team searched Segment 3 with a Coverage of 0.75.</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V searched Segment 1 with a POD of 25%.</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dney Cruise was not found.</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part of Segment 2 that was not searched by the helicopter is the new Segment 4. </a:t>
            </a:r>
            <a:endParaRPr b="0" lang="en-US" sz="2000" spc="-1" strike="noStrike">
              <a:solidFill>
                <a:srgbClr val="000000"/>
              </a:solidFill>
              <a:latin typeface="Times New Roman"/>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d the updated POAs and the CPOD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a:t>
            </a:r>
            <a:endParaRPr b="0" lang="en-US" sz="4400" spc="-1" strike="noStrike">
              <a:solidFill>
                <a:srgbClr val="000000"/>
              </a:solidFill>
              <a:latin typeface="Arial"/>
            </a:endParaRPr>
          </a:p>
        </p:txBody>
      </p:sp>
      <p:pic>
        <p:nvPicPr>
          <p:cNvPr id="564" name="Picture 2" descr=""/>
          <p:cNvPicPr/>
          <p:nvPr/>
        </p:nvPicPr>
        <p:blipFill>
          <a:blip r:embed="rId1"/>
          <a:stretch/>
        </p:blipFill>
        <p:spPr>
          <a:xfrm>
            <a:off x="1143000" y="1676520"/>
            <a:ext cx="5748480" cy="4297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566" name="Picture 4" descr="j0078711"/>
          <p:cNvPicPr/>
          <p:nvPr/>
        </p:nvPicPr>
        <p:blipFill>
          <a:blip r:embed="rId1"/>
          <a:stretch/>
        </p:blipFill>
        <p:spPr>
          <a:xfrm>
            <a:off x="3760920" y="1461960"/>
            <a:ext cx="1622160" cy="3934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 Incident</a:t>
            </a:r>
            <a:endParaRPr b="0" lang="en-US" sz="4400" spc="-1" strike="noStrike">
              <a:solidFill>
                <a:srgbClr val="000000"/>
              </a:solidFill>
              <a:latin typeface="Arial"/>
            </a:endParaRPr>
          </a:p>
        </p:txBody>
      </p:sp>
      <p:sp>
        <p:nvSpPr>
          <p:cNvPr id="5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xt exercises will each continue from this point in different directions, so you should make copies of the current incident before attempting them.</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a</a:t>
            </a:r>
            <a:endParaRPr b="0" lang="en-US" sz="4400" spc="-1" strike="noStrike">
              <a:solidFill>
                <a:srgbClr val="000000"/>
              </a:solidFill>
              <a:latin typeface="Arial"/>
            </a:endParaRPr>
          </a:p>
        </p:txBody>
      </p:sp>
      <p:sp>
        <p:nvSpPr>
          <p:cNvPr id="57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xercise continues from the Base Incid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Operational Period 3 the subject is found in good health in the middle of Segment 1 by the Helicopt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ate a Report that summarizes the search.</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b</a:t>
            </a:r>
            <a:endParaRPr b="0" lang="en-US" sz="4400" spc="-1" strike="noStrike">
              <a:solidFill>
                <a:srgbClr val="000000"/>
              </a:solidFill>
              <a:latin typeface="Arial"/>
            </a:endParaRPr>
          </a:p>
        </p:txBody>
      </p:sp>
      <p:sp>
        <p:nvSpPr>
          <p:cNvPr id="57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xercise continues from the Base Incid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Operational Period 2 a green baseball cap is found in the middle of Segment 1. No one doubts that it belongs to Sidney Cruise. It strongly suggests that the subject is in Segment 1, and strongly suggests that the subject is not in the R.O.W., but suggests nothing about the subject being in or out of the remaining segments.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updated POA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b</a:t>
            </a:r>
            <a:endParaRPr b="0" lang="en-US" sz="4400" spc="-1" strike="noStrike">
              <a:solidFill>
                <a:srgbClr val="000000"/>
              </a:solidFill>
              <a:latin typeface="Arial"/>
            </a:endParaRPr>
          </a:p>
        </p:txBody>
      </p:sp>
      <p:pic>
        <p:nvPicPr>
          <p:cNvPr id="574" name="Picture 2" descr=""/>
          <p:cNvPicPr/>
          <p:nvPr/>
        </p:nvPicPr>
        <p:blipFill>
          <a:blip r:embed="rId1"/>
          <a:stretch/>
        </p:blipFill>
        <p:spPr>
          <a:xfrm>
            <a:off x="1676520" y="1752480"/>
            <a:ext cx="5748120" cy="4297320"/>
          </a:xfrm>
          <a:prstGeom prst="rect">
            <a:avLst/>
          </a:prstGeom>
          <a:ln w="0">
            <a:noFill/>
          </a:ln>
        </p:spPr>
      </p:pic>
      <p:sp>
        <p:nvSpPr>
          <p:cNvPr id="575" name="Oval 5"/>
          <p:cNvSpPr/>
          <p:nvPr/>
        </p:nvSpPr>
        <p:spPr>
          <a:xfrm>
            <a:off x="3200400" y="4267080"/>
            <a:ext cx="2743200" cy="106704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b</a:t>
            </a:r>
            <a:endParaRPr b="0" lang="en-US" sz="4400" spc="-1" strike="noStrike">
              <a:solidFill>
                <a:srgbClr val="000000"/>
              </a:solidFill>
              <a:latin typeface="Arial"/>
            </a:endParaRPr>
          </a:p>
        </p:txBody>
      </p:sp>
      <p:sp>
        <p:nvSpPr>
          <p:cNvPr id="57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the impact of the baseball cap, the search manager decides to put all the available resources into Segment 1 during Operational Period 3. At the end of Operational Period 3 you are given the following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copter searched Segment 1 with a POD of 4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sse searched Segment 1 with a POD of 5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round team searched Segment 1 with a Coverage of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V searched Segment 1 with a POD of 2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dney Cruise was not found. </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updated POAs and the CPOD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ull-Scaled Search?</a:t>
            </a:r>
            <a:endParaRPr b="0" lang="en-US" sz="4400" spc="-1" strike="noStrike">
              <a:solidFill>
                <a:srgbClr val="000000"/>
              </a:solidFill>
              <a:latin typeface="Arial"/>
            </a:endParaRPr>
          </a:p>
        </p:txBody>
      </p:sp>
      <p:sp>
        <p:nvSpPr>
          <p:cNvPr id="53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 far as Win C.A.S.I.E. III is concerned a Full-Scale Search begins when the decision is made to create and enter a Consensus. This is usually about the time when the rapidly-deployed resources, such as hasty teams and ridge-runners, report no succes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ce a consensus is created most of the items in Win C.A.S.I.E. III are available.</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b</a:t>
            </a:r>
            <a:endParaRPr b="0" lang="en-US" sz="4400" spc="-1" strike="noStrike">
              <a:solidFill>
                <a:srgbClr val="000000"/>
              </a:solidFill>
              <a:latin typeface="Arial"/>
            </a:endParaRPr>
          </a:p>
        </p:txBody>
      </p:sp>
      <p:pic>
        <p:nvPicPr>
          <p:cNvPr id="579" name="Picture 2" descr=""/>
          <p:cNvPicPr/>
          <p:nvPr/>
        </p:nvPicPr>
        <p:blipFill>
          <a:blip r:embed="rId1"/>
          <a:stretch/>
        </p:blipFill>
        <p:spPr>
          <a:xfrm>
            <a:off x="1447920" y="1828800"/>
            <a:ext cx="5748120" cy="4297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b</a:t>
            </a:r>
            <a:endParaRPr b="0" lang="en-US" sz="4400" spc="-1" strike="noStrike">
              <a:solidFill>
                <a:srgbClr val="000000"/>
              </a:solidFill>
              <a:latin typeface="Arial"/>
            </a:endParaRPr>
          </a:p>
        </p:txBody>
      </p:sp>
      <p:sp>
        <p:nvSpPr>
          <p:cNvPr id="58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ney Cruise’s wife examines the baseball cap and declares that it is not her husbands.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updated POAs after this clue has been removed.</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b</a:t>
            </a:r>
            <a:endParaRPr b="0" lang="en-US" sz="4400" spc="-1" strike="noStrike">
              <a:solidFill>
                <a:srgbClr val="000000"/>
              </a:solidFill>
              <a:latin typeface="Arial"/>
            </a:endParaRPr>
          </a:p>
        </p:txBody>
      </p:sp>
      <p:pic>
        <p:nvPicPr>
          <p:cNvPr id="583" name="Picture 3" descr=""/>
          <p:cNvPicPr/>
          <p:nvPr/>
        </p:nvPicPr>
        <p:blipFill>
          <a:blip r:embed="rId1"/>
          <a:stretch/>
        </p:blipFill>
        <p:spPr>
          <a:xfrm>
            <a:off x="1219320" y="1828800"/>
            <a:ext cx="5748120" cy="4297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585" name="Picture 4" descr="j0078711"/>
          <p:cNvPicPr/>
          <p:nvPr/>
        </p:nvPicPr>
        <p:blipFill>
          <a:blip r:embed="rId1"/>
          <a:stretch/>
        </p:blipFill>
        <p:spPr>
          <a:xfrm>
            <a:off x="3760920" y="1461960"/>
            <a:ext cx="1622160" cy="393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c</a:t>
            </a:r>
            <a:endParaRPr b="0" lang="en-US" sz="4400" spc="-1" strike="noStrike">
              <a:solidFill>
                <a:srgbClr val="000000"/>
              </a:solidFill>
              <a:latin typeface="Arial"/>
            </a:endParaRPr>
          </a:p>
        </p:txBody>
      </p:sp>
      <p:sp>
        <p:nvSpPr>
          <p:cNvPr id="5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xercise continues from the Base Incid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Operational Period 2 a previously unknown cave is found in the middle of Segment 2. The search manager expands the search area, assigning half the R.O.W.’s POA to the new Segmen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updated POAs.</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c</a:t>
            </a:r>
            <a:endParaRPr b="0" lang="en-US" sz="4400" spc="-1" strike="noStrike">
              <a:solidFill>
                <a:srgbClr val="000000"/>
              </a:solidFill>
              <a:latin typeface="Arial"/>
            </a:endParaRPr>
          </a:p>
        </p:txBody>
      </p:sp>
      <p:pic>
        <p:nvPicPr>
          <p:cNvPr id="589" name="Picture 2" descr=""/>
          <p:cNvPicPr/>
          <p:nvPr/>
        </p:nvPicPr>
        <p:blipFill>
          <a:blip r:embed="rId1"/>
          <a:stretch/>
        </p:blipFill>
        <p:spPr>
          <a:xfrm>
            <a:off x="1295280" y="1752480"/>
            <a:ext cx="5748480" cy="4297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c</a:t>
            </a:r>
            <a:endParaRPr b="0" lang="en-US" sz="4400" spc="-1" strike="noStrike">
              <a:solidFill>
                <a:srgbClr val="000000"/>
              </a:solidFill>
              <a:latin typeface="Arial"/>
            </a:endParaRPr>
          </a:p>
        </p:txBody>
      </p:sp>
      <p:sp>
        <p:nvSpPr>
          <p:cNvPr id="5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arch manager plans to send a team of cavers into Segment 5 during Operational Period 3. The other resources available are 2 helicopters, 3 ground teams, and 1 ATV. Their anticipated PODs, are shown in the table.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should these resources be allocated in Operational Period 3 to maximize success?</a:t>
            </a:r>
            <a:endParaRPr b="0" lang="en-US" sz="2400" spc="-1" strike="noStrike">
              <a:solidFill>
                <a:srgbClr val="000000"/>
              </a:solidFill>
              <a:latin typeface="Times New Roman"/>
            </a:endParaRPr>
          </a:p>
        </p:txBody>
      </p:sp>
      <p:pic>
        <p:nvPicPr>
          <p:cNvPr id="592" name="Picture 3" descr=""/>
          <p:cNvPicPr/>
          <p:nvPr/>
        </p:nvPicPr>
        <p:blipFill>
          <a:blip r:embed="rId1"/>
          <a:stretch/>
        </p:blipFill>
        <p:spPr>
          <a:xfrm>
            <a:off x="1905120" y="4343400"/>
            <a:ext cx="4971960" cy="1905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c</a:t>
            </a:r>
            <a:endParaRPr b="0" lang="en-US" sz="4400" spc="-1" strike="noStrike">
              <a:solidFill>
                <a:srgbClr val="000000"/>
              </a:solidFill>
              <a:latin typeface="Arial"/>
            </a:endParaRPr>
          </a:p>
        </p:txBody>
      </p:sp>
      <p:sp>
        <p:nvSpPr>
          <p:cNvPr id="59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ources are assigned according to allocation determined in the previous step. At the end of Operational Period 3 you are given the following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helicopters completed their assignments but the second helicopter’s POD is reported to be half of its anticipated PO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round teams and ATV completed their assignments with their anticipated P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avers reported back with a POD of 8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dney Cruise was not found.</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updated POAs and the CPODs.</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c</a:t>
            </a:r>
            <a:endParaRPr b="0" lang="en-US" sz="4400" spc="-1" strike="noStrike">
              <a:solidFill>
                <a:srgbClr val="000000"/>
              </a:solidFill>
              <a:latin typeface="Arial"/>
            </a:endParaRPr>
          </a:p>
        </p:txBody>
      </p:sp>
      <p:pic>
        <p:nvPicPr>
          <p:cNvPr id="596" name="Picture 2" descr=""/>
          <p:cNvPicPr/>
          <p:nvPr/>
        </p:nvPicPr>
        <p:blipFill>
          <a:blip r:embed="rId1"/>
          <a:stretch/>
        </p:blipFill>
        <p:spPr>
          <a:xfrm>
            <a:off x="1523880" y="1828800"/>
            <a:ext cx="5748480" cy="4297320"/>
          </a:xfrm>
          <a:prstGeom prst="rect">
            <a:avLst/>
          </a:prstGeom>
          <a:ln w="0">
            <a:noFill/>
          </a:ln>
        </p:spPr>
      </p:pic>
      <p:sp>
        <p:nvSpPr>
          <p:cNvPr id="597" name="Oval 6"/>
          <p:cNvSpPr/>
          <p:nvPr/>
        </p:nvSpPr>
        <p:spPr>
          <a:xfrm>
            <a:off x="2895480" y="4267080"/>
            <a:ext cx="3962520" cy="152424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c</a:t>
            </a:r>
            <a:endParaRPr b="0" lang="en-US" sz="4400" spc="-1" strike="noStrike">
              <a:solidFill>
                <a:srgbClr val="000000"/>
              </a:solidFill>
              <a:latin typeface="Arial"/>
            </a:endParaRPr>
          </a:p>
        </p:txBody>
      </p:sp>
      <p:sp>
        <p:nvSpPr>
          <p:cNvPr id="5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ird ground team report that they now realize that the did not search their assigned segment, but the adjacent segment.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their entry to reflect this, and find the updated POAs and the CPOD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1</a:t>
            </a:r>
            <a:endParaRPr b="0" lang="en-US" sz="4400" spc="-1" strike="noStrike">
              <a:solidFill>
                <a:srgbClr val="000000"/>
              </a:solidFill>
              <a:latin typeface="Arial"/>
            </a:endParaRPr>
          </a:p>
        </p:txBody>
      </p:sp>
      <p:sp>
        <p:nvSpPr>
          <p:cNvPr id="5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ttle Johnny, a two-year-old white male, is reported missing by his parents, Angela and Frank Treat, from their isolated trailer home at 8:00 a.m. one Saturday. The terrain is flat, with little change in elevation. It is summer and the temperature ranges are predicted to be between 90</a:t>
            </a:r>
            <a:r>
              <a:rPr b="0" i="1" lang="en-US" sz="2400" spc="-1" strike="noStrike" baseline="30000">
                <a:solidFill>
                  <a:srgbClr val="000000"/>
                </a:solidFill>
                <a:latin typeface="Times New Roman"/>
              </a:rPr>
              <a:t>◦</a:t>
            </a:r>
            <a:r>
              <a:rPr b="0" lang="en-US" sz="2400" spc="-1" strike="noStrike">
                <a:solidFill>
                  <a:srgbClr val="000000"/>
                </a:solidFill>
                <a:latin typeface="Times New Roman"/>
              </a:rPr>
              <a:t>F</a:t>
            </a:r>
            <a:r>
              <a:rPr b="0" i="1" lang="en-US" sz="2400" spc="-1" strike="noStrike">
                <a:solidFill>
                  <a:srgbClr val="000000"/>
                </a:solidFill>
                <a:latin typeface="Times New Roman"/>
              </a:rPr>
              <a:t> </a:t>
            </a:r>
            <a:r>
              <a:rPr b="0" lang="en-US" sz="2400" spc="-1" strike="noStrike">
                <a:solidFill>
                  <a:srgbClr val="000000"/>
                </a:solidFill>
                <a:latin typeface="Times New Roman"/>
              </a:rPr>
              <a:t>and 100</a:t>
            </a:r>
            <a:r>
              <a:rPr b="0" i="1" lang="en-US" sz="2400" spc="-1" strike="noStrike" baseline="30000">
                <a:solidFill>
                  <a:srgbClr val="000000"/>
                </a:solidFill>
                <a:latin typeface="Times New Roman"/>
              </a:rPr>
              <a:t>◦</a:t>
            </a:r>
            <a:r>
              <a:rPr b="0" lang="en-US" sz="2400" spc="-1" strike="noStrike">
                <a:solidFill>
                  <a:srgbClr val="000000"/>
                </a:solidFill>
                <a:latin typeface="Times New Roman"/>
              </a:rPr>
              <a:t>F for the next week</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have a helicopter, two ATVs, and two trail runners.</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c</a:t>
            </a:r>
            <a:endParaRPr b="0" lang="en-US" sz="4400" spc="-1" strike="noStrike">
              <a:solidFill>
                <a:srgbClr val="000000"/>
              </a:solidFill>
              <a:latin typeface="Arial"/>
            </a:endParaRPr>
          </a:p>
        </p:txBody>
      </p:sp>
      <p:pic>
        <p:nvPicPr>
          <p:cNvPr id="601" name="Picture 2" descr=""/>
          <p:cNvPicPr/>
          <p:nvPr/>
        </p:nvPicPr>
        <p:blipFill>
          <a:blip r:embed="rId1"/>
          <a:stretch/>
        </p:blipFill>
        <p:spPr>
          <a:xfrm>
            <a:off x="3048120" y="2209680"/>
            <a:ext cx="5748120" cy="4297320"/>
          </a:xfrm>
          <a:prstGeom prst="rect">
            <a:avLst/>
          </a:prstGeom>
          <a:ln w="0">
            <a:noFill/>
          </a:ln>
        </p:spPr>
      </p:pic>
      <p:sp>
        <p:nvSpPr>
          <p:cNvPr id="602" name="Oval 5"/>
          <p:cNvSpPr/>
          <p:nvPr/>
        </p:nvSpPr>
        <p:spPr>
          <a:xfrm>
            <a:off x="4419720" y="5334120"/>
            <a:ext cx="4267080" cy="68580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3" name="Picture 3" descr=""/>
          <p:cNvPicPr/>
          <p:nvPr/>
        </p:nvPicPr>
        <p:blipFill>
          <a:blip r:embed="rId2"/>
          <a:stretch/>
        </p:blipFill>
        <p:spPr>
          <a:xfrm>
            <a:off x="304920" y="1600200"/>
            <a:ext cx="2057400" cy="2522520"/>
          </a:xfrm>
          <a:prstGeom prst="rect">
            <a:avLst/>
          </a:prstGeom>
          <a:ln w="0">
            <a:noFill/>
          </a:ln>
        </p:spPr>
      </p:pic>
      <p:cxnSp>
        <p:nvCxnSpPr>
          <p:cNvPr id="604" name="Straight Arrow Connector 8"/>
          <p:cNvCxnSpPr/>
          <p:nvPr/>
        </p:nvCxnSpPr>
        <p:spPr>
          <a:xfrm>
            <a:off x="1981080" y="2666520"/>
            <a:ext cx="915120" cy="839160"/>
          </a:xfrm>
          <a:prstGeom prst="straightConnector1">
            <a:avLst/>
          </a:prstGeom>
          <a:ln w="25560">
            <a:solidFill>
              <a:srgbClr val="000000"/>
            </a:solidFill>
            <a:miter/>
            <a:tailEnd len="med" type="arrow"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606" name="Picture 4" descr="j0078711"/>
          <p:cNvPicPr/>
          <p:nvPr/>
        </p:nvPicPr>
        <p:blipFill>
          <a:blip r:embed="rId1"/>
          <a:stretch/>
        </p:blipFill>
        <p:spPr>
          <a:xfrm>
            <a:off x="3760920" y="1461960"/>
            <a:ext cx="1622160" cy="393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sp>
        <p:nvSpPr>
          <p:cNvPr id="60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ana Vogan, an 84-year-old female, is reported missing by her daughter, Latrina, from their camp ground at 7:00 a.m. one Monday. Twana is in good health for someone of her age, but she easily gets   disoriented. Latrina thinks her mother got up in the night to use the facilities, but she did not return. It is summer and the temperature ranges are predicted to be between 50</a:t>
            </a:r>
            <a:r>
              <a:rPr b="0" lang="en-US" sz="2400" spc="-1" strike="noStrike" baseline="30000">
                <a:solidFill>
                  <a:srgbClr val="000000"/>
                </a:solidFill>
                <a:latin typeface="Times New Roman"/>
              </a:rPr>
              <a:t>◦</a:t>
            </a:r>
            <a:r>
              <a:rPr b="0" lang="en-US" sz="2400" spc="-1" strike="noStrike">
                <a:solidFill>
                  <a:srgbClr val="000000"/>
                </a:solidFill>
                <a:latin typeface="Times New Roman"/>
              </a:rPr>
              <a:t>F and 80</a:t>
            </a:r>
            <a:r>
              <a:rPr b="0" lang="en-US" sz="2400" spc="-1" strike="noStrike" baseline="30000">
                <a:solidFill>
                  <a:srgbClr val="000000"/>
                </a:solidFill>
                <a:latin typeface="Times New Roman"/>
              </a:rPr>
              <a:t>◦</a:t>
            </a:r>
            <a:r>
              <a:rPr b="0" lang="en-US" sz="2400" spc="-1" strike="noStrike">
                <a:solidFill>
                  <a:srgbClr val="000000"/>
                </a:solidFill>
                <a:latin typeface="Times New Roman"/>
              </a:rPr>
              <a:t>F for the next week with clear skies. You are the search manag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a helicopter, two horse patrols, and two ground teams. At 8 a.m. you deploy all your resources immediately along likely trails, drainages, and ridge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sp>
        <p:nvSpPr>
          <p:cNvPr id="6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Win C.A.S.I.E. III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an Initial No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mplete a Lost Person Questionnai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 the Urgency Rating of this incident and add it to the Initial No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the Lost Person Behavior characteristics of Twana into the Initial No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 the Distance Traveled by someone like Twana and add it to the Initial No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 the Circular Search Area and add it to the Initial Not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 the deployment information into the Initial Note</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sp>
        <p:nvSpPr>
          <p:cNvPr id="6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waiting for the resources to report back you segment the search area into 5 segments, where Segment 5 is all the regions being searched by the initial resources (but restricted to 3 feet wid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10 a.m. the resources return without finding Twana.</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sp>
        <p:nvSpPr>
          <p:cNvPr id="6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immediately have four experts give their consensus having explained the current search status. Their responses are shown in the table.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the consensus, import the Initial Note, and generate a report.</a:t>
            </a:r>
            <a:endParaRPr b="0" lang="en-US" sz="2400" spc="-1" strike="noStrike">
              <a:solidFill>
                <a:srgbClr val="000000"/>
              </a:solidFill>
              <a:latin typeface="Times New Roman"/>
            </a:endParaRPr>
          </a:p>
        </p:txBody>
      </p:sp>
      <p:pic>
        <p:nvPicPr>
          <p:cNvPr id="615" name="Picture 2" descr=""/>
          <p:cNvPicPr/>
          <p:nvPr/>
        </p:nvPicPr>
        <p:blipFill>
          <a:blip r:embed="rId1"/>
          <a:stretch/>
        </p:blipFill>
        <p:spPr>
          <a:xfrm>
            <a:off x="2057400" y="3886200"/>
            <a:ext cx="4572000" cy="2327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pic>
        <p:nvPicPr>
          <p:cNvPr id="617" name="Picture 2" descr=""/>
          <p:cNvPicPr/>
          <p:nvPr/>
        </p:nvPicPr>
        <p:blipFill>
          <a:blip r:embed="rId1"/>
          <a:stretch/>
        </p:blipFill>
        <p:spPr>
          <a:xfrm>
            <a:off x="3429000" y="2819520"/>
            <a:ext cx="5522760" cy="3870360"/>
          </a:xfrm>
          <a:prstGeom prst="rect">
            <a:avLst/>
          </a:prstGeom>
          <a:ln w="0">
            <a:noFill/>
          </a:ln>
        </p:spPr>
      </p:pic>
      <p:pic>
        <p:nvPicPr>
          <p:cNvPr id="618" name="Picture 2" descr=""/>
          <p:cNvPicPr/>
          <p:nvPr/>
        </p:nvPicPr>
        <p:blipFill>
          <a:blip r:embed="rId2"/>
          <a:stretch/>
        </p:blipFill>
        <p:spPr>
          <a:xfrm>
            <a:off x="0" y="1447920"/>
            <a:ext cx="3733920" cy="1900080"/>
          </a:xfrm>
          <a:prstGeom prst="rect">
            <a:avLst/>
          </a:prstGeom>
          <a:ln w="0">
            <a:noFill/>
          </a:ln>
        </p:spPr>
      </p:pic>
      <p:cxnSp>
        <p:nvCxnSpPr>
          <p:cNvPr id="619" name="Straight Arrow Connector 4"/>
          <p:cNvCxnSpPr/>
          <p:nvPr/>
        </p:nvCxnSpPr>
        <p:spPr>
          <a:xfrm>
            <a:off x="1599840" y="3429000"/>
            <a:ext cx="1677240" cy="534240"/>
          </a:xfrm>
          <a:prstGeom prst="straightConnector1">
            <a:avLst/>
          </a:prstGeom>
          <a:ln w="25560">
            <a:solidFill>
              <a:srgbClr val="000000"/>
            </a:solidFill>
            <a:miter/>
            <a:tailEnd len="med" type="arrow" w="med"/>
          </a:ln>
        </p:spPr>
      </p:cxn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sp>
        <p:nvSpPr>
          <p:cNvPr id="62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 1 is the “hottest” region, so you are going to deploy the helicopter, with a known POD of 50%, and a grid team.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se two resources have searched Segment 1, you want their CPOD to be 80%. The grid-team members quickly determine that their Critical Separation in Segment 1 is 100 feet.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the spacing needed to achieve this CPOD.</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pic>
        <p:nvPicPr>
          <p:cNvPr id="623" name="Picture 2" descr=""/>
          <p:cNvPicPr/>
          <p:nvPr/>
        </p:nvPicPr>
        <p:blipFill>
          <a:blip r:embed="rId1"/>
          <a:stretch/>
        </p:blipFill>
        <p:spPr>
          <a:xfrm>
            <a:off x="3962520" y="3200400"/>
            <a:ext cx="5029200" cy="3276720"/>
          </a:xfrm>
          <a:prstGeom prst="rect">
            <a:avLst/>
          </a:prstGeom>
          <a:ln w="0">
            <a:noFill/>
          </a:ln>
        </p:spPr>
      </p:pic>
      <p:pic>
        <p:nvPicPr>
          <p:cNvPr id="624" name="Picture 3" descr=""/>
          <p:cNvPicPr/>
          <p:nvPr/>
        </p:nvPicPr>
        <p:blipFill>
          <a:blip r:embed="rId2"/>
          <a:stretch/>
        </p:blipFill>
        <p:spPr>
          <a:xfrm>
            <a:off x="304920" y="1523880"/>
            <a:ext cx="2819160" cy="3505320"/>
          </a:xfrm>
          <a:prstGeom prst="rect">
            <a:avLst/>
          </a:prstGeom>
          <a:ln w="0">
            <a:noFill/>
          </a:ln>
        </p:spPr>
      </p:pic>
      <p:cxnSp>
        <p:nvCxnSpPr>
          <p:cNvPr id="625" name="Straight Arrow Connector 6"/>
          <p:cNvCxnSpPr/>
          <p:nvPr/>
        </p:nvCxnSpPr>
        <p:spPr>
          <a:xfrm>
            <a:off x="2361960" y="2514600"/>
            <a:ext cx="3277080" cy="1753200"/>
          </a:xfrm>
          <a:prstGeom prst="straightConnector1">
            <a:avLst/>
          </a:prstGeom>
          <a:ln w="25560">
            <a:solidFill>
              <a:srgbClr val="000000"/>
            </a:solidFill>
            <a:miter/>
            <a:tailEnd len="med" type="arrow" w="med"/>
          </a:ln>
        </p:spPr>
      </p:cxnSp>
      <p:sp>
        <p:nvSpPr>
          <p:cNvPr id="626" name="Oval 9"/>
          <p:cNvSpPr/>
          <p:nvPr/>
        </p:nvSpPr>
        <p:spPr>
          <a:xfrm>
            <a:off x="4267080" y="5181480"/>
            <a:ext cx="4496040" cy="68580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sp>
        <p:nvSpPr>
          <p:cNvPr id="628" name="PlaceHolder 2"/>
          <p:cNvSpPr>
            <a:spLocks noGrp="1"/>
          </p:cNvSpPr>
          <p:nvPr>
            <p:ph/>
          </p:nvPr>
        </p:nvSpPr>
        <p:spPr>
          <a:xfrm>
            <a:off x="682200" y="1981080"/>
            <a:ext cx="823284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ources are assigned for Operational Period 1 and return with the following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copter and grid-team are assigned to Segment 1 and complete their mission, except the grid-team’s spacing was 150 fe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cond grid-team searched Segment 2 with a Coverage of 1.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horse patrol searched Segment 3 with a Coverage of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cond horse patrol searched Segment 4 with a Coverage of 0.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oving to their respective assignments, all of Segment 5 was traversed by the various resources, giving a POD of 90%.</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ana Vogan was not found.</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updated POAs and the CPODs.</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1</a:t>
            </a:r>
            <a:endParaRPr b="0" lang="en-US" sz="4400" spc="-1" strike="noStrike">
              <a:solidFill>
                <a:srgbClr val="000000"/>
              </a:solidFill>
              <a:latin typeface="Arial"/>
            </a:endParaRPr>
          </a:p>
        </p:txBody>
      </p:sp>
      <p:sp>
        <p:nvSpPr>
          <p:cNvPr id="5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Win C.A.S.I.E. III to:</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Open an Initial Not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 Complete a Lost Person Questionnair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ssess the Urgency Rating of this incident and add it to the Initial Not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Incorporate the Lost Person Behavior characteristics of Johnny into the Initial Not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Estimate the Distance Traveled by someone like Johnny and add it to the Initial Not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 Estimate the Circular Search Area and add it to the Initial Note.</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sp>
        <p:nvSpPr>
          <p:cNvPr id="630" name="PlaceHolder 2"/>
          <p:cNvSpPr>
            <a:spLocks noGrp="1"/>
          </p:cNvSpPr>
          <p:nvPr>
            <p:ph/>
          </p:nvPr>
        </p:nvSpPr>
        <p:spPr>
          <a:xfrm>
            <a:off x="682200" y="1981080"/>
            <a:ext cx="823284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licopter and grid-team are assigned to Segment 1 and complete their mission, except the grid-team’s spacing was 150 feet.</a:t>
            </a:r>
            <a:endParaRPr b="0" lang="en-US" sz="2400" spc="-1" strike="noStrike">
              <a:solidFill>
                <a:srgbClr val="000000"/>
              </a:solidFill>
              <a:latin typeface="Times New Roman"/>
            </a:endParaRPr>
          </a:p>
        </p:txBody>
      </p:sp>
      <p:pic>
        <p:nvPicPr>
          <p:cNvPr id="631" name="Picture 2" descr=""/>
          <p:cNvPicPr/>
          <p:nvPr/>
        </p:nvPicPr>
        <p:blipFill>
          <a:blip r:embed="rId1"/>
          <a:stretch/>
        </p:blipFill>
        <p:spPr>
          <a:xfrm>
            <a:off x="2819520" y="2819520"/>
            <a:ext cx="5029200" cy="3657600"/>
          </a:xfrm>
          <a:prstGeom prst="rect">
            <a:avLst/>
          </a:prstGeom>
          <a:ln w="0">
            <a:noFill/>
          </a:ln>
        </p:spPr>
      </p:pic>
      <p:sp>
        <p:nvSpPr>
          <p:cNvPr id="632" name="Oval 4"/>
          <p:cNvSpPr/>
          <p:nvPr/>
        </p:nvSpPr>
        <p:spPr>
          <a:xfrm>
            <a:off x="3200400" y="5257800"/>
            <a:ext cx="4495680" cy="5335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pic>
        <p:nvPicPr>
          <p:cNvPr id="634" name="Picture 2" descr=""/>
          <p:cNvPicPr/>
          <p:nvPr/>
        </p:nvPicPr>
        <p:blipFill>
          <a:blip r:embed="rId1"/>
          <a:stretch/>
        </p:blipFill>
        <p:spPr>
          <a:xfrm>
            <a:off x="1905120" y="1676520"/>
            <a:ext cx="5748120" cy="4297320"/>
          </a:xfrm>
          <a:prstGeom prst="rect">
            <a:avLst/>
          </a:prstGeom>
          <a:ln w="0">
            <a:noFill/>
          </a:ln>
        </p:spPr>
      </p:pic>
      <p:sp>
        <p:nvSpPr>
          <p:cNvPr id="635" name="Oval 6"/>
          <p:cNvSpPr/>
          <p:nvPr/>
        </p:nvSpPr>
        <p:spPr>
          <a:xfrm>
            <a:off x="3200400" y="4267080"/>
            <a:ext cx="4495680" cy="129564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sp>
        <p:nvSpPr>
          <p:cNvPr id="637" name="PlaceHolder 2"/>
          <p:cNvSpPr>
            <a:spLocks noGrp="1"/>
          </p:cNvSpPr>
          <p:nvPr>
            <p:ph/>
          </p:nvPr>
        </p:nvSpPr>
        <p:spPr>
          <a:xfrm>
            <a:off x="682200" y="1981080"/>
            <a:ext cx="823284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rse patrol in Segment 3 found a scarf near the boundary with Segment 4. Latrina identifies it as her mothers. The scarf strongly suggests that the subject is in Segments 3 or 4, and strongly suggests that the subject is not in the R.O.W., but suggests nothing about the subject being in or out of the remaining segments.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updated POAs.</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pic>
        <p:nvPicPr>
          <p:cNvPr id="639" name="Picture 3" descr=""/>
          <p:cNvPicPr/>
          <p:nvPr/>
        </p:nvPicPr>
        <p:blipFill>
          <a:blip r:embed="rId1"/>
          <a:stretch/>
        </p:blipFill>
        <p:spPr>
          <a:xfrm>
            <a:off x="2895480" y="1676520"/>
            <a:ext cx="3657600" cy="3400200"/>
          </a:xfrm>
          <a:prstGeom prst="rect">
            <a:avLst/>
          </a:prstGeom>
          <a:ln w="0">
            <a:noFill/>
          </a:ln>
        </p:spPr>
      </p:pic>
      <p:pic>
        <p:nvPicPr>
          <p:cNvPr id="640" name="Picture 2" descr=""/>
          <p:cNvPicPr/>
          <p:nvPr/>
        </p:nvPicPr>
        <p:blipFill>
          <a:blip r:embed="rId2"/>
          <a:stretch/>
        </p:blipFill>
        <p:spPr>
          <a:xfrm>
            <a:off x="380880" y="1676520"/>
            <a:ext cx="1971720" cy="2333520"/>
          </a:xfrm>
          <a:prstGeom prst="rect">
            <a:avLst/>
          </a:prstGeom>
          <a:ln w="0">
            <a:noFill/>
          </a:ln>
        </p:spPr>
      </p:pic>
      <p:pic>
        <p:nvPicPr>
          <p:cNvPr id="641" name="Picture 4" descr=""/>
          <p:cNvPicPr/>
          <p:nvPr/>
        </p:nvPicPr>
        <p:blipFill>
          <a:blip r:embed="rId3"/>
          <a:stretch/>
        </p:blipFill>
        <p:spPr>
          <a:xfrm>
            <a:off x="6781680" y="4038480"/>
            <a:ext cx="1981440" cy="2333880"/>
          </a:xfrm>
          <a:prstGeom prst="rect">
            <a:avLst/>
          </a:prstGeom>
          <a:ln w="0">
            <a:noFill/>
          </a:ln>
        </p:spPr>
      </p:pic>
      <p:cxnSp>
        <p:nvCxnSpPr>
          <p:cNvPr id="642" name="Straight Arrow Connector 7"/>
          <p:cNvCxnSpPr/>
          <p:nvPr/>
        </p:nvCxnSpPr>
        <p:spPr>
          <a:xfrm>
            <a:off x="6172200" y="3200040"/>
            <a:ext cx="915120" cy="762840"/>
          </a:xfrm>
          <a:prstGeom prst="straightConnector1">
            <a:avLst/>
          </a:prstGeom>
          <a:ln w="25560">
            <a:solidFill>
              <a:srgbClr val="000000"/>
            </a:solidFill>
            <a:miter/>
            <a:tailEnd len="med" type="arrow" w="med"/>
          </a:ln>
        </p:spPr>
      </p:cxnSp>
      <p:cxnSp>
        <p:nvCxnSpPr>
          <p:cNvPr id="643" name="Straight Arrow Connector 6"/>
          <p:cNvCxnSpPr/>
          <p:nvPr/>
        </p:nvCxnSpPr>
        <p:spPr>
          <a:xfrm>
            <a:off x="1981080" y="2590920"/>
            <a:ext cx="991440" cy="2160"/>
          </a:xfrm>
          <a:prstGeom prst="straightConnector1">
            <a:avLst/>
          </a:prstGeom>
          <a:ln w="25560">
            <a:solidFill>
              <a:srgbClr val="000000"/>
            </a:solidFill>
            <a:miter/>
            <a:tailEnd len="med" type="arrow" w="med"/>
          </a:ln>
        </p:spPr>
      </p:cxn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3</a:t>
            </a:r>
            <a:endParaRPr b="0" lang="en-US" sz="4400" spc="-1" strike="noStrike">
              <a:solidFill>
                <a:srgbClr val="000000"/>
              </a:solidFill>
              <a:latin typeface="Arial"/>
            </a:endParaRPr>
          </a:p>
        </p:txBody>
      </p:sp>
      <p:sp>
        <p:nvSpPr>
          <p:cNvPr id="645" name="PlaceHolder 2"/>
          <p:cNvSpPr>
            <a:spLocks noGrp="1"/>
          </p:cNvSpPr>
          <p:nvPr>
            <p:ph/>
          </p:nvPr>
        </p:nvSpPr>
        <p:spPr>
          <a:xfrm>
            <a:off x="682200" y="1981080"/>
            <a:ext cx="823284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Operational Period 2, Twana was found in Segment 3 by the helicopter. She was unconscious and required a medical evacu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report of the entire incident.</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647" name="Picture 4" descr="j0078711"/>
          <p:cNvPicPr/>
          <p:nvPr/>
        </p:nvPicPr>
        <p:blipFill>
          <a:blip r:embed="rId1"/>
          <a:stretch/>
        </p:blipFill>
        <p:spPr>
          <a:xfrm>
            <a:off x="3760920" y="1461960"/>
            <a:ext cx="1622160" cy="39340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a:t>
            </a:r>
            <a:endParaRPr b="0" lang="en-US" sz="4400" spc="-1" strike="noStrike">
              <a:solidFill>
                <a:srgbClr val="000000"/>
              </a:solidFill>
              <a:latin typeface="Arial"/>
            </a:endParaRPr>
          </a:p>
        </p:txBody>
      </p:sp>
      <p:pic>
        <p:nvPicPr>
          <p:cNvPr id="649" name="Picture 4" descr="bs01121_"/>
          <p:cNvPicPr/>
          <p:nvPr/>
        </p:nvPicPr>
        <p:blipFill>
          <a:blip r:embed="rId1"/>
          <a:stretch/>
        </p:blipFill>
        <p:spPr>
          <a:xfrm>
            <a:off x="1523880" y="1143000"/>
            <a:ext cx="1841760" cy="3468600"/>
          </a:xfrm>
          <a:prstGeom prst="rect">
            <a:avLst/>
          </a:prstGeom>
          <a:ln w="0">
            <a:noFill/>
          </a:ln>
        </p:spPr>
      </p:pic>
      <p:pic>
        <p:nvPicPr>
          <p:cNvPr id="650" name="Picture 5" descr="AG00457_"/>
          <p:cNvPicPr/>
          <p:nvPr/>
        </p:nvPicPr>
        <p:blipFill>
          <a:blip r:embed="rId2"/>
          <a:stretch/>
        </p:blipFill>
        <p:spPr>
          <a:xfrm>
            <a:off x="5638680" y="3048120"/>
            <a:ext cx="2293920" cy="23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1</a:t>
            </a:r>
            <a:endParaRPr b="0" lang="en-US" sz="4400" spc="-1" strike="noStrike">
              <a:solidFill>
                <a:srgbClr val="000000"/>
              </a:solidFill>
              <a:latin typeface="Arial"/>
            </a:endParaRPr>
          </a:p>
        </p:txBody>
      </p:sp>
      <p:sp>
        <p:nvSpPr>
          <p:cNvPr id="54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10 a.m. you deploy all your resources immediately along likely trails. Enter this information into the Initial Note. One hour later the helicopter finds Johnny 1.2 miles from the IPP in good condition. He is airlifted back to base camp.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this information into the Initial Note and print the Not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a:t>
            </a:r>
            <a:endParaRPr b="0" lang="en-US" sz="4400" spc="-1" strike="noStrike">
              <a:solidFill>
                <a:srgbClr val="000000"/>
              </a:solidFill>
              <a:latin typeface="Arial"/>
            </a:endParaRPr>
          </a:p>
        </p:txBody>
      </p:sp>
      <p:sp>
        <p:nvSpPr>
          <p:cNvPr id="5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earch is underway for Sydney Cruise, a 60 year-old male, who usually wears a green baseball cap.</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are called in to operate Win C.A.S.I.E. III just as the consensus is about to be take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a:t>
            </a:r>
            <a:endParaRPr b="0" lang="en-US" sz="4400" spc="-1" strike="noStrike">
              <a:solidFill>
                <a:srgbClr val="000000"/>
              </a:solidFill>
              <a:latin typeface="Arial"/>
            </a:endParaRPr>
          </a:p>
        </p:txBody>
      </p:sp>
      <p:sp>
        <p:nvSpPr>
          <p:cNvPr id="54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sked to print 3 consensus forms using Win C.A.S.I.E. III. Do thi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returned to you and they contain the information shown in the table. Find the consensus.</a:t>
            </a:r>
            <a:endParaRPr b="0" lang="en-US" sz="2400" spc="-1" strike="noStrike">
              <a:solidFill>
                <a:srgbClr val="000000"/>
              </a:solidFill>
              <a:latin typeface="Times New Roman"/>
            </a:endParaRPr>
          </a:p>
        </p:txBody>
      </p:sp>
      <p:pic>
        <p:nvPicPr>
          <p:cNvPr id="550" name="Picture 2" descr=""/>
          <p:cNvPicPr/>
          <p:nvPr/>
        </p:nvPicPr>
        <p:blipFill>
          <a:blip r:embed="rId1"/>
          <a:stretch/>
        </p:blipFill>
        <p:spPr>
          <a:xfrm>
            <a:off x="1600200" y="3733920"/>
            <a:ext cx="5753160" cy="1828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a:t>
            </a:r>
            <a:endParaRPr b="0" lang="en-US" sz="4400" spc="-1" strike="noStrike">
              <a:solidFill>
                <a:srgbClr val="000000"/>
              </a:solidFill>
              <a:latin typeface="Arial"/>
            </a:endParaRPr>
          </a:p>
        </p:txBody>
      </p:sp>
      <p:pic>
        <p:nvPicPr>
          <p:cNvPr id="552" name="Picture 2" descr=""/>
          <p:cNvPicPr/>
          <p:nvPr/>
        </p:nvPicPr>
        <p:blipFill>
          <a:blip r:embed="rId1"/>
          <a:stretch/>
        </p:blipFill>
        <p:spPr>
          <a:xfrm>
            <a:off x="228600" y="1600200"/>
            <a:ext cx="4876920" cy="3417840"/>
          </a:xfrm>
          <a:prstGeom prst="rect">
            <a:avLst/>
          </a:prstGeom>
          <a:ln w="0">
            <a:noFill/>
          </a:ln>
        </p:spPr>
      </p:pic>
      <p:pic>
        <p:nvPicPr>
          <p:cNvPr id="553" name="Picture 4" descr=""/>
          <p:cNvPicPr/>
          <p:nvPr/>
        </p:nvPicPr>
        <p:blipFill>
          <a:blip r:embed="rId2"/>
          <a:stretch/>
        </p:blipFill>
        <p:spPr>
          <a:xfrm>
            <a:off x="2819520" y="3429000"/>
            <a:ext cx="6065640" cy="2819520"/>
          </a:xfrm>
          <a:prstGeom prst="rect">
            <a:avLst/>
          </a:prstGeom>
          <a:ln w="0">
            <a:noFill/>
          </a:ln>
        </p:spPr>
      </p:pic>
      <p:pic>
        <p:nvPicPr>
          <p:cNvPr id="554" name="Picture 2" descr=""/>
          <p:cNvPicPr/>
          <p:nvPr/>
        </p:nvPicPr>
        <p:blipFill>
          <a:blip r:embed="rId3"/>
          <a:stretch/>
        </p:blipFill>
        <p:spPr>
          <a:xfrm>
            <a:off x="4572000" y="1066680"/>
            <a:ext cx="4419720" cy="140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2</a:t>
            </a:r>
            <a:endParaRPr b="0" lang="en-US" sz="4400" spc="-1" strike="noStrike">
              <a:solidFill>
                <a:srgbClr val="000000"/>
              </a:solidFill>
              <a:latin typeface="Arial"/>
            </a:endParaRPr>
          </a:p>
        </p:txBody>
      </p:sp>
      <p:sp>
        <p:nvSpPr>
          <p:cNvPr id="5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4 resources are allocated, and are about to return after Operational Period 1. You are asked to print 4  debriefing forms using Win C.A.S.I.E. III. Do th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17:28:49Z</dcterms:created>
  <dc:creator>Richard Judd</dc:creator>
  <dc:description/>
  <dc:language>en-US</dc:language>
  <cp:lastModifiedBy>Richard Judd</cp:lastModifiedBy>
  <dcterms:modified xsi:type="dcterms:W3CDTF">2011-02-10T01:43:41Z</dcterms:modified>
  <cp:revision>253</cp:revision>
  <dc:subject>Technical Large Animal Rescue</dc:subject>
  <dc:title>MSAR Map &amp; Compa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